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FBF0-1D44-42C8-8C65-92883742C04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1657-8FAC-4FD3-923D-16E3C1836BD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71AE-CF7F-4760-81F8-61FE26A61D5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2F2B-1C96-4E98-B3AC-020FFEE232D1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6D19-69D8-4728-86AB-0FDF5EA8546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F72F-C332-4873-9992-57B7BF5A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A1A-89AC-4FD5-8967-1F6F2B42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697B-9E3F-4DB5-ABA1-5D3D70F8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68A8-9D9A-4F81-9B9F-D5C17F96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C757-3D1B-42CC-A497-D64A8CBC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579D-7A72-497A-A942-F5FB6939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2308-E173-47B5-9492-19555AB3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3FB3-CF12-47A7-8C54-29716F0F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DEFA-F204-4FA2-B1C4-1A22AFC6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5177-E5BE-444E-9663-9B556CAC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53E2-1E32-48F2-95C3-C0AC5239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DCF-9E00-4216-86DE-3DC9FE23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0719-D9B3-4A0B-A663-92B664B9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4F96-529B-4082-88DE-E9B27727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4F32-7AE7-4798-8D8F-0C078671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8CCF-C2F1-453A-97BE-02159C50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258F-82E0-40F0-8587-9F7F8672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20A-DB38-4EB0-9F95-FE575A4A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911A-26C6-41FA-9361-E6901228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BBB-ECBC-4897-B993-4874632F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AB20-80EE-4C31-BE63-E4ED93FF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4B7C-2244-4FF6-8E31-FB2614F7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06EF-C61B-455B-B027-63AA15DD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F3A-1A34-47E9-8F04-150E161D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DF27-8B16-4202-8BF3-3FB072D98DCA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42B4-955F-4739-AC0C-37C911FD30E6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B019-9109-4F38-8E27-E06BD71DF622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6517-31E1-4E65-B129-B59CF829A0A7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84" name="Straight Connector 10"/>
          <p:cNvSpPr/>
          <p:nvPr/>
        </p:nvSpPr>
        <p:spPr>
          <a:xfrm>
            <a:off x="395280" y="6381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Footer Placeholder 6"/>
          <p:cNvSpPr/>
          <p:nvPr/>
        </p:nvSpPr>
        <p:spPr>
          <a:xfrm>
            <a:off x="395280" y="260280"/>
            <a:ext cx="8440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a7cd39"/>
                </a:solidFill>
                <a:latin typeface="Century Gothic"/>
              </a:rPr>
              <a:t>Flight Training Division. AIA 2011 Conference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394920" y="6381360"/>
            <a:ext cx="75042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mclegal.co.nz/" TargetMode="External"/><Relationship Id="rId2" Type="http://schemas.openxmlformats.org/officeDocument/2006/relationships/hyperlink" Target="http://www.caa.govt.nz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79912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The FPP Test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What you (or your students) need to know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31800" y="5300640"/>
            <a:ext cx="7880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a7cd39"/>
                </a:solidFill>
                <a:latin typeface="Century Gothic"/>
                <a:ea typeface="Arial"/>
              </a:rPr>
              <a:t>Flight Training Division Presentatio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a7cd39"/>
                </a:solidFill>
                <a:latin typeface="Century Gothic"/>
                <a:ea typeface="Arial"/>
              </a:rPr>
              <a:t>AIA Aviation Week Conference July 2011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4" name="Picture 3" descr="C:\Users\Angela Beazer\Documents\AMC Legal Services Ltd\AMC company info, tax, std terms of engagement\AMC logo tagline.jpg"/>
          <p:cNvPicPr/>
          <p:nvPr/>
        </p:nvPicPr>
        <p:blipFill>
          <a:blip r:embed="rId1"/>
          <a:stretch/>
        </p:blipFill>
        <p:spPr>
          <a:xfrm>
            <a:off x="3089160" y="660240"/>
            <a:ext cx="296568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90120" y="620640"/>
            <a:ext cx="7626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ngoing FPP obliga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1187280" y="1628640"/>
            <a:ext cx="6783480" cy="40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articipants must remain fit and proper to exercise the privileges of any aviation document held (s9(3) CA Act)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riteria in s10 continue to appl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Failure to disclose relevant FPP information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s an offence under the Act – s49(1)(c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ay itself lead to an adverse FPP determination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>
                <a:solidFill>
                  <a:srgbClr val="000000"/>
                </a:solidFill>
                <a:latin typeface="Century Gothic"/>
              </a:rPr>
              <a:t>New Zealand Law Society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v </a:t>
            </a:r>
            <a:r>
              <a:rPr b="1" i="1" lang="en-NZ" sz="1600" spc="-1" strike="noStrike">
                <a:solidFill>
                  <a:srgbClr val="000000"/>
                </a:solidFill>
                <a:latin typeface="Century Gothic"/>
              </a:rPr>
              <a:t>Mitchell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[2011] NZAR 81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Lawyer struck off for failing to disclose 39 convic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urt of Appeal noted he may have met the FPP standard if the convictions had been disclose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67800" y="553680"/>
            <a:ext cx="779796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viation experienc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1042920" y="1300320"/>
            <a:ext cx="676908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Experience in aviation industry will be increasingly relevant and carry more weight over tim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mpliance with s12 CA Act relevant to FPP status–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Obligation on participants to comply with the Act, Rules and conditions on aviation documents (s12(2)); and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o exercise the privileges of aviation documents safely and in accordance with prescribed safety standards (s12(3))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>
                <a:solidFill>
                  <a:srgbClr val="000000"/>
                </a:solidFill>
                <a:latin typeface="Palatino Linotype"/>
              </a:rPr>
              <a:t>Re Taylor and Department of Transport </a:t>
            </a:r>
            <a:r>
              <a:rPr b="1" lang="en-NZ" sz="1600" spc="-1" strike="noStrike">
                <a:solidFill>
                  <a:srgbClr val="000000"/>
                </a:solidFill>
                <a:latin typeface="Palatino Linotype"/>
              </a:rPr>
              <a:t>(1978)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1 ALD 312 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Palatino Linotype"/>
              </a:rPr>
              <a:t>Administrative Appeals Tribunal of Australia posed the test in relation to assessing whether a commercial pilot remains fit and proper as follows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“</a:t>
            </a:r>
            <a:r>
              <a:rPr b="1" i="1" lang="en-NZ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it is not simply a question of competence to fly an aircraft</a:t>
            </a:r>
            <a:r>
              <a:rPr b="0" lang="en-NZ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… [it requires] </a:t>
            </a: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a consideration of the </a:t>
            </a:r>
            <a:r>
              <a:rPr b="1" i="1" lang="en-NZ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[participant’s] conduct measured against the responsibilities, functions and duties of the holder of a commercial pilot licence </a:t>
            </a: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as they emerge from the provisions of the Air Navigation Regulations … it is clear that [those duties] include observing the interests of the safety of air navigation – not only in the interests of pilots, passengers and the owners of aircraft, but also the interests of the public at large”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Questions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1692360" y="1916280"/>
            <a:ext cx="547200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Other sources of information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mclegal.co.nz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– articles on FPP issues as published in </a:t>
            </a:r>
            <a:r>
              <a:rPr b="0" i="1" lang="en-NZ" sz="1800" spc="-1" strike="noStrike">
                <a:solidFill>
                  <a:srgbClr val="000000"/>
                </a:solidFill>
                <a:latin typeface="Century Gothic"/>
              </a:rPr>
              <a:t>NZ Aviation New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ff"/>
                </a:solidFill>
                <a:uFillTx/>
                <a:latin typeface="Century Gothic"/>
                <a:hlinkClick r:id="rId2"/>
              </a:rPr>
              <a:t>www.caa.govt.nz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– search under “F” for fit and proper pers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AA Personnel Licensing Uni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7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900000" y="1719360"/>
            <a:ext cx="684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The FPP test in the civil aviation contex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Civil Aviation Act provision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How it applies to pilots as new entrant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Continuing FPP obligations of licensed pilot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5880" y="692280"/>
            <a:ext cx="8435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PP in the aviation contex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826920" y="1484280"/>
            <a:ext cx="756144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Why does it apply to aviation participant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o protect and promote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public interest in aviation safet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interests of participants in the aviation system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How is this achieved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By requiring participants who hold or exercise control over an aviation document to satisfy the FPP test (s9 CA Act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By enforcing appropriate sanctions where participants do not satisfy the FPP test (s17-20 CA Act)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Who decide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Director of Civil Aviation, the Cour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701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Civil Aviation Ac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684360" y="1700280"/>
            <a:ext cx="720072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Section 10:  The Mandatory FPP criteri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Director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must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ave regard to the degree and nature of a person’s proposed involvement in the civil aviation system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nsider the person’s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ompliance history with transport safety regulation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Related experience within transport industry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Knowledge of civil aviation regulatory requirement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Physical, mental health or serious behavioural issue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onvictions for transport safety offences; an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ny evidence that a transport safety offence or breach of the Civil Aviation Rules has been committ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826920" y="1052640"/>
            <a:ext cx="6985080" cy="46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s10 - Other relevant matter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Director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may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ake into account any other matter or evidence considered releva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Seek and receive, and consider, any information obtained from any sourc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Other relevant information may include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ther criminal convictions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estimonials, references from industr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verse information from industry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weight to be given to any relevant matter, and the final FPP decision, are at the discretion of the Directo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84360" y="836640"/>
            <a:ext cx="7343640" cy="46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tion 11: Proposed adverse decision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Director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must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isclose any adverse information taken into account, or notify any proposed adverse FPP decision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llow the person a reasonable opportunity to refute or comment on it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fter considering any response, notify the final decision and, if it is adverse, explain the consequences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Section 66: Appeal to the Court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dverse FPP decisions and decisions affecting the validity or exercise of the privileges of an aviation document may be appealed to the District Cour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PP test applied to new pilot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900000" y="1628640"/>
            <a:ext cx="687564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 typical profile for a young student pilot applying for a PPL or CPL will be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Knowledge of civil aviation regulations – at the required standard for the applicable licenc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ivil aviation flying experience – at or slightly above minimum required hour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Has drivers licenc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Little or no other transport sector (commercial) experienc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No serious physical, mental health or behavioural concerns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In such cases the Director will focus on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ny history of land transport infringement offences or conviction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ny other convictions that may be of relevanc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826920" y="907920"/>
            <a:ext cx="72741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Land transport infringement offenc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ne or two - unlikely to be significant concer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n-going history - will be viewed seriously and scrutinise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Land Transport conviction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ill be assessed in light of all of the other FPP criteria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ore than one conviction, and/or combination of convictions and infringements – viewed seriously, increases level of scrutiny of applicant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Other conviction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ust be relevant to the licence being sought- eg drug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mbination with any transport safety offences will increase seriousness and scrutin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762120" y="620640"/>
            <a:ext cx="7127640" cy="55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Other factors that may be relevant to adverse offences history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Length of time since or between offence(s)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articular circumstances/seriousness of offence(s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haracter references and testimonials – flight instructo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hether restrictions or conditions could address any safety concerns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Points to Note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 statutory presumption that a conviction = not fit and prope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 minimum ‘conviction free period’ appli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ust be assessed on a case by case basis and with regard to intended role in the system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23:40:59Z</dcterms:created>
  <dc:creator>Angela Joanne Beazer</dc:creator>
  <dc:description/>
  <dc:language>en-US</dc:language>
  <cp:lastModifiedBy>Angela Joanne Beazer</cp:lastModifiedBy>
  <dcterms:modified xsi:type="dcterms:W3CDTF">2011-07-06T00:16:36Z</dcterms:modified>
  <cp:revision>137</cp:revision>
  <dc:subject/>
  <dc:title>The FPP Test: What you need to know</dc:title>
</cp:coreProperties>
</file>