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06B8-1F12-4527-A059-D40D08B8E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3C71-668F-455D-A282-5FC6523D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963B-5BD8-4618-A3E5-F84A6CE65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A2D9-4056-4658-B808-69194841A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43C8-EBCF-451A-9583-77AC7AF7E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991C7-E177-4875-97E7-176BC2CC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087F-0678-47D5-B35E-C2E50823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2054-0A9E-4280-8130-538A5DEE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A94B-0325-4379-A382-F59C0648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5EE24-B14E-4F19-AAC3-B92C501D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E1B0-5D08-44FC-85CD-E0CA30C2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2B6F-71B5-4869-8D01-534530BB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0CF79-758B-42A0-A39B-E21B7320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0D1A3-B02F-4014-AF4E-71F5E7EF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A77F-3EFE-448D-8014-4DCCB32E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4517-EE12-4442-BE04-8B980EC72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9867-88BD-44A0-88F6-82545C3DE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07D3-0394-4BD7-AFE5-F40EC769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D321-B667-422F-A8B2-87E5FAFC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E5ED-8C7D-4058-89A7-951DD439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51BB-5B26-4DBF-A770-C03B720D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846D-4BB1-4DFB-8AF1-AFF84D40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AAAD-F4B7-422C-88F4-D06BEB87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423A-F4CD-4318-87D9-58B6BEC0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D5E4-3680-459C-BD90-E3DED64E8089}" type="datetime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7F01-9A15-44A3-B5CD-02A27D899EC1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3" name="Picture 6" descr="AMC logo plane.jpg"/>
          <p:cNvPicPr/>
          <p:nvPr/>
        </p:nvPicPr>
        <p:blipFill>
          <a:blip r:embed="rId2"/>
          <a:stretch/>
        </p:blipFill>
        <p:spPr>
          <a:xfrm>
            <a:off x="7792920" y="6093000"/>
            <a:ext cx="1059120" cy="649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CF93-FC77-47B2-9E78-67D749DC5D8A}" type="datetime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2628-C078-4ECB-86A8-863C9D2402D4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AMC logo plane.jpg"/>
          <p:cNvPicPr/>
          <p:nvPr/>
        </p:nvPicPr>
        <p:blipFill>
          <a:blip r:embed="rId2"/>
          <a:stretch/>
        </p:blipFill>
        <p:spPr>
          <a:xfrm>
            <a:off x="7792920" y="6093000"/>
            <a:ext cx="1059120" cy="649080"/>
          </a:xfrm>
          <a:prstGeom prst="rect">
            <a:avLst/>
          </a:prstGeom>
          <a:ln w="0">
            <a:noFill/>
          </a:ln>
        </p:spPr>
      </p:pic>
      <p:sp>
        <p:nvSpPr>
          <p:cNvPr id="84" name="Straight Connector 10"/>
          <p:cNvSpPr/>
          <p:nvPr/>
        </p:nvSpPr>
        <p:spPr>
          <a:xfrm>
            <a:off x="395280" y="638172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5" name="Footer Placeholder 6"/>
          <p:cNvSpPr/>
          <p:nvPr/>
        </p:nvSpPr>
        <p:spPr>
          <a:xfrm>
            <a:off x="395280" y="260280"/>
            <a:ext cx="8440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a7cd39"/>
                </a:solidFill>
                <a:latin typeface="Century Gothic"/>
              </a:rPr>
              <a:t>Commercial Transport/Tourist Flight Operators. AIA 2011 conference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7"/>
          </p:nvPr>
        </p:nvSpPr>
        <p:spPr>
          <a:xfrm>
            <a:off x="394920" y="6381360"/>
            <a:ext cx="750420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mclegal.co.nz/" TargetMode="External"/><Relationship Id="rId2" Type="http://schemas.openxmlformats.org/officeDocument/2006/relationships/hyperlink" Target="http://www.caa.govt.nz/" TargetMode="External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49440" y="2852280"/>
            <a:ext cx="7845120" cy="18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entury Gothic"/>
                <a:ea typeface="Arial"/>
              </a:rPr>
              <a:t>The FPP Test</a:t>
            </a:r>
            <a:br>
              <a:rPr sz="4400"/>
            </a:br>
            <a:r>
              <a:rPr b="0" lang="en-NZ" sz="4400" spc="-1" strike="noStrike">
                <a:solidFill>
                  <a:srgbClr val="000000"/>
                </a:solidFill>
                <a:latin typeface="Century Gothic"/>
                <a:ea typeface="Arial"/>
              </a:rPr>
              <a:t>What you need to know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31800" y="5300640"/>
            <a:ext cx="78804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a7cd39"/>
                </a:solidFill>
                <a:latin typeface="Century Gothic"/>
                <a:ea typeface="Arial"/>
              </a:rPr>
              <a:t>Commercial Transport/Tourist Flight Operators Presentatio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a7cd39"/>
                </a:solidFill>
                <a:latin typeface="Century Gothic"/>
                <a:ea typeface="Arial"/>
              </a:rPr>
              <a:t>AIA Aviation Week Conference July 2011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7" name="Picture 3" descr="C:\Users\Angela Beazer\Documents\AMC Legal Services Ltd\AMC company info, tax, std terms of engagement\AMC logo tagline.jpg"/>
          <p:cNvPicPr/>
          <p:nvPr/>
        </p:nvPicPr>
        <p:blipFill>
          <a:blip r:embed="rId1"/>
          <a:stretch/>
        </p:blipFill>
        <p:spPr>
          <a:xfrm>
            <a:off x="3089160" y="660240"/>
            <a:ext cx="2965680" cy="16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76280" y="6811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Proposed adverse decision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2" name="TextBox 1"/>
          <p:cNvSpPr/>
          <p:nvPr/>
        </p:nvSpPr>
        <p:spPr>
          <a:xfrm>
            <a:off x="811080" y="1628640"/>
            <a:ext cx="7559640" cy="43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10, s11 FPP decisions - The Director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</a:rPr>
              <a:t>must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Disclose any adverse information taken into account and allow the person to refute or comment on it; an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Notify any proposed adverse decision, and consider any submissions, in accordance with s11; an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Notify the final decision and, if it is adverse, explain the consequence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66 – Right of appeal against adverse decisions affecting validity and exercise of privileges of aviation document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Note - currently no direct right of appeal by senior person against adverse FPP determina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4" name="TextBox 1"/>
          <p:cNvSpPr/>
          <p:nvPr/>
        </p:nvSpPr>
        <p:spPr>
          <a:xfrm>
            <a:off x="826920" y="907920"/>
            <a:ext cx="7201080" cy="51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Points to Note: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Financial or economic impact of adverse decision - may be considered but ‘plays second fiddle’ to aviation safety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Past convictions or adverse record that did not previously lead to an adverse decision – can be taken into accoun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Fact that person has been charged with offence – may be relevant dependent on circumstance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2858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Hearsay evidence and adverse reports to CAA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3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McCool v Rushcliffe Borough Council </a:t>
            </a:r>
            <a:r>
              <a:rPr b="1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[1998]</a:t>
            </a: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UK –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3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The decision maker must not rely on </a:t>
            </a:r>
            <a:r>
              <a:rPr b="0" i="1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“prejudice or assertions shown to be ill-founded or gossip or rumour… [but may rely on] </a:t>
            </a:r>
            <a:r>
              <a:rPr b="1" i="1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anything which a reasonable and fair minded decision maker</a:t>
            </a:r>
            <a:r>
              <a:rPr b="0" i="1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, acting in good faith and with proper regard to the interests of both the public and the applicant, </a:t>
            </a:r>
            <a:r>
              <a:rPr b="1" i="1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could properly think it right to rely on”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3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Re-entry into the system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7" name="TextBox 1"/>
          <p:cNvSpPr/>
          <p:nvPr/>
        </p:nvSpPr>
        <p:spPr>
          <a:xfrm>
            <a:off x="1185840" y="1484280"/>
            <a:ext cx="6769080" cy="47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No statutory bar on any person denied entry or ‘exited’ from the system in re-applying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Director must consider any new applica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Factors that will influence decis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Length of time since previous adverse decis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Demonstrated efforts to address behaviour that lead to adverse decision, eg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Retraining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Rehabilita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cceptance of past wrong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Change in attitude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ny other matters relevant to future involvement in industry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Questions</a:t>
            </a:r>
            <a:r>
              <a:rPr b="0" lang="en-NZ" sz="4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1692360" y="1916280"/>
            <a:ext cx="5472000" cy="29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Other sources of information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mclegal.co.nz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– articles on FPP issues as published in </a:t>
            </a:r>
            <a:r>
              <a:rPr b="0" i="1" lang="en-NZ" sz="1800" spc="-1" strike="noStrike">
                <a:solidFill>
                  <a:srgbClr val="000000"/>
                </a:solidFill>
                <a:latin typeface="Century Gothic"/>
              </a:rPr>
              <a:t>NZ Aviation New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ff"/>
                </a:solidFill>
                <a:uFillTx/>
                <a:latin typeface="Century Gothic"/>
                <a:hlinkClick r:id="rId2"/>
              </a:rPr>
              <a:t>www.caa.govt.nz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– search under “F” for fit and proper person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CAA Personnel Licensing Uni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8560" y="639360"/>
            <a:ext cx="5948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0" name="TextBox 1"/>
          <p:cNvSpPr/>
          <p:nvPr/>
        </p:nvSpPr>
        <p:spPr>
          <a:xfrm>
            <a:off x="1015920" y="1557360"/>
            <a:ext cx="7085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Overview of the FPP test; application to senior person roles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The continuing obligation to remain fit and proper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Inter-relationship between FPP criteria and the Director’s exit power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Re-entry into the system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FPP in the aviation contex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3" name="TextBox 1"/>
          <p:cNvSpPr/>
          <p:nvPr/>
        </p:nvSpPr>
        <p:spPr>
          <a:xfrm>
            <a:off x="755640" y="1413000"/>
            <a:ext cx="77040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Why does it apply to aviation participants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o protect and promote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he public interest in aviation safety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he interests of participants in the aviation system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How is this achieved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Entry control – participants must satisfy the FPP test (s9 CA Act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Exit control – enforce sanctions where participants do not satisfy the FPP test (s17-20 CA Act)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Who decides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he Director of Civil Aviation, the Court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FPP tes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976320" y="1484280"/>
            <a:ext cx="6840360" cy="47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Civil Aviation Act 1990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ection 10(1) mandatory FPP criteria – must have regard to the person’s role or intended role in system; and: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Compliance history with transport safety regulations including any convictions, infringements or other evidence of offence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Related experience within the transport industry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Knowledge of, and compliance with, civil aviation regulatory requirement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Physical, mental health or serious behavioural issues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ection 10(2) and (3) – Director may also consider any other matter and evidence as is considered relevant, from any source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826920" y="620640"/>
            <a:ext cx="7417080" cy="57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Senior Person FPP assessment: CEO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Focus – whether the senior person will safely and responsibly exercise control over the privileges of the organisation’s aviation document; and engender good aviation safety cultur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Taking into account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Knowledge of aviation system regulatory requirements or intended management structure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Related experience (if any) in the transport industry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Past civil aviation regulatory compliance record – individual and/or organisa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Evidence of transport offences or other relevant convictions – eg fraud, dishonesty offence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Management experience, references, testimonial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dverse reports or informa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ontinuing FPP obligation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1000080" y="1628640"/>
            <a:ext cx="684072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ection 9(3) – any person who </a:t>
            </a: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holds or has control over the exercise of any privileges of 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an aviation document must continue to satisfy the fit and proper person test – condition of every aviation documen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12 CA Act obligations on participants to –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entury Gothic"/>
                <a:ea typeface="Arial"/>
              </a:rPr>
              <a:t>Comply with the Act, Rules and conditions attached to aviation documents (s12(2)); and 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entury Gothic"/>
                <a:ea typeface="Arial"/>
              </a:rPr>
              <a:t>Carry out the functions and activities relating to aviation documents safely and in accordance with prescribed safety standards (s12(3))</a:t>
            </a:r>
            <a:br>
              <a:rPr sz="1400"/>
            </a:br>
            <a:r>
              <a:rPr b="0" lang="en-NZ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12 compliance key part of s15A investigations; and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ignificant to consideration of whether a senior person remains fit and proper to continue in role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FPP Disclosure obligation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4" name="TextBox 1"/>
          <p:cNvSpPr/>
          <p:nvPr/>
        </p:nvSpPr>
        <p:spPr>
          <a:xfrm>
            <a:off x="1187280" y="1628640"/>
            <a:ext cx="6409080" cy="45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Continuing obligation to disclose any information relevant to mandatory s10(1) criteria – eg subsequent conviction for a driving offence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Failure to disclose relevant information about FPP status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Is an offence under s49(1)(c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Could itself lead or contribute to an adverse FPP determina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00"/>
                </a:solidFill>
                <a:latin typeface="Century Gothic"/>
              </a:rPr>
              <a:t>New Zealand Law Society </a:t>
            </a: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v </a:t>
            </a:r>
            <a:r>
              <a:rPr b="1" i="1" lang="en-NZ" sz="1800" spc="-1" strike="noStrike">
                <a:solidFill>
                  <a:srgbClr val="000000"/>
                </a:solidFill>
                <a:latin typeface="Century Gothic"/>
              </a:rPr>
              <a:t>Mitchell </a:t>
            </a: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[2011] NZAR 81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Lawyer struck off for failing to disclose 39 conviction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Court of Appeal noted he may have met the FPP standard to practice law if the convictions had been disclose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FPP criteria and exit power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900000" y="1341360"/>
            <a:ext cx="734400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Power to suspend, impose conditions or revoke aviation document on fit and proper person grounds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17(1) – grounds for initial suspension include contravening or failing to comply with s49 by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</a:rPr>
              <a:t>holder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of aviation document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17(4) and s18 powers to suspend, impose conditions (for a specified period or permanently) or revoke aviation document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s19(2) – Criteria for use of those powers include any conviction, or evidence of transport safety offences committed, or non-compliance with transport safety regulations; and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s 19(3) –Any other relevant matter or evidence about the person</a:t>
            </a:r>
            <a:br>
              <a:rPr sz="1600"/>
            </a:b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= Clear inter-relationship between FPP criteria and exit powers against i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</a:rPr>
              <a:t>ndividuals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who hold aviation document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9" name="TextBox 3"/>
          <p:cNvSpPr/>
          <p:nvPr/>
        </p:nvSpPr>
        <p:spPr>
          <a:xfrm>
            <a:off x="826920" y="1125360"/>
            <a:ext cx="734400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Use of exit powers where a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</a:rPr>
              <a:t>senior person 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is no longer considered fit and proper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Director may withdraw senior person approval on FPP grounds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</a:rPr>
              <a:t>Bu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Absent any other widespread evidence of organisational non-compliance history, this may not justify use of s17-18 powers against the organisation; an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Provided affected senior person can be replaced, organisation should be permitted to continue to operate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Withdrawal of all senior persons approvals = may justify use of exit powers against organisa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4T23:40:59Z</dcterms:created>
  <dc:creator>Angela Joanne Beazer</dc:creator>
  <dc:description/>
  <dc:language>en-US</dc:language>
  <cp:lastModifiedBy>Angela Joanne Beazer</cp:lastModifiedBy>
  <dcterms:modified xsi:type="dcterms:W3CDTF">2011-07-06T00:18:32Z</dcterms:modified>
  <cp:revision>84</cp:revision>
  <dc:subject/>
  <dc:title>The FPP Test: What you need to know</dc:title>
</cp:coreProperties>
</file>