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5A6-071F-4641-A97B-93A4C3AB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402-0AD2-4C58-B722-35517B68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175-DA7B-4E95-ACB7-F1B6E182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B16-A4E0-46D7-BDC9-45F076ED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6D58-3531-402F-9F0F-594453D1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1D0-5A6E-4927-AA5E-B7DB76ED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3930-A4AF-4462-BDF6-1882ED0F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6B4-9977-4CD1-82C4-83B59DB5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3754-D0B4-4887-91AD-5028592E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7C45-B894-494C-BD96-CC80B70F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7170-8E23-44E4-A649-EADCBB4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425-FFC5-430A-83DA-8009BA13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13B4-631E-4068-A4F7-0CC0A948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5CB8-7782-41E3-AC36-6E42C93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CE8B-6591-446E-93EA-7C3923AF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C16A-BAAD-4A80-9E03-FA61195F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C7C9-A348-46A9-AEF6-2E036E17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C8E-1935-4D23-B12F-92C94F78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DB9-D66D-47E8-8E93-FB757D47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477-3F57-4289-AFED-83813E96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D2A-2B7F-4E07-A3B0-6795CC2D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6CF-DDEA-49B2-89DE-BFEAFD53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55B-22D8-46FF-9FA0-D1C960A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A62-C96B-42B8-BA37-7986B64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13FE-F8F0-478B-8902-03B585FD2305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C371-3CE8-4119-B156-6B051623033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DB9-124F-4593-BF7B-AD86AA102070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59F4-7AF9-4C36-ACEC-CDAD946E8935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Air Transport Division. AIA 2012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9440" y="2852280"/>
            <a:ext cx="784512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owers, rights and obligations: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Dealing with the CA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r Transport Division Present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IA Aviation Week Conference August 2012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General Power of Ent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1280" y="1488960"/>
            <a:ext cx="74898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br>
              <a:rPr sz="2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ny person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right of access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to an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not being a dwellinghouse or marae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Document or record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concerning any aircraft, aeronautical product, or aviation related servi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ny person duly authorised by the Director ha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right of entry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t any reasonable tim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 or marae)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if there are reasonable grounds to believ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ct or Rules are about to be breached;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 condition of an aviation document breached;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nsafe situation constituting danger to safety exi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611280" y="1488960"/>
            <a:ext cx="7489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access- s24(1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n authorised person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provide access to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excluding dwellinghouse) - requires physical entry; and/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 document or record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cerning any aircraft, aeronautical product, or aviation related service - may require physical inspection or to provide copi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“reasonable time”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depends on the circumstances and nature of the access sought – you have a duty to reasonably assist and not obstruct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ost commonly used in relation to s15 and s15A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66800" y="620640"/>
            <a:ext cx="7559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Right of entry - s24(2)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requested by a duly authorised person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ho informs you that they are exercising their s24(2) powers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, you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t 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ow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entry to any aircraft, aerodrome, building or plac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warrant required for dwellinghouse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t a reasonable time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= in light of the purpose of this power, is likely to  be based on assessment of the person exercising power; generally will require entry immediately or as soon as practicable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24(3) person exercising rights under s24(1) and (2) may require any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erson in possession of documents to produce or surrender th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uthority must be shown on entry or on reques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se powers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Law Enforc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187280" y="1557360"/>
            <a:ext cx="669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law enforcement investigations derived from general power under s72I to enforce the Act and Rules, including offence provis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believed evidence about an offence exists, a warrant to search for that evidence at specified location(s) will usually be obtained from the Cour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Director can also rely on s24(1) and (3) to obtain and access records; and in limited circumstances on s24(2) to gain entry to premises without a warr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 obligation to attend law enforcement interview or to answer any questions, however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verse inferences or conclusions may be drawn about alleged offending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71640" y="765000"/>
            <a:ext cx="734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n-cooperation may influence Director’s attitude to prosecution or otherwise dealing with breaches; and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cknowledgement of clear cases of breaches = can be taken into account as mitigating factors in sentencing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on whether to attend interview and answer questions is finely balanc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ecision may also be influenced/complicated by whether a concurrent s15A investigation is being under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dvice should be sought </a:t>
            </a: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before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committing to inter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96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Safety Investig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042920" y="162864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ction 26 obligation of pilot and operator to –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ify accident or incident, or a search and rescue operation, to the Authority as soon as practicable; and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o provide such further information to the Authority as is reques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art 12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1 - notification requirements in relation to an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3 – 10 days to provide further details about ac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5 – notification of incidents required by operato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7 – notification of further details of incident and timefra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59 – obligation of operators to investigate incidents and report to CAA within 90 days (unless advised not to, or TAIC is investigating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ersons submitting information under 12.55 and 12.57 may request confidential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971640" y="76500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12.63 Non Prosecution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formation submitted under Part 12 to the Authority may not be used for prosecution purposes unl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information reveals behaviour constituting unnecessary endanger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alse information is submitte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Authority is obliged by court order or other statutory requirement to release the informa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latter situation could conceivably include a warrant obtained by the police or other agency (eg the police); or the Department of Labour (Health and Safety enforce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– Information supplied to TAIC cannot be used for other purposes by any other agency, including prosecu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826920" y="768240"/>
            <a:ext cx="7490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Preservation of Aircraft and Records under part 12</a:t>
            </a:r>
            <a:br>
              <a:rPr sz="1800"/>
            </a:b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1 - Duty not to remove, access, interfere with an aircraft or its contents after an accident unless authorised by Authorit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is is subject to right to remove persons, livestock or wreckage or take other steps to secure aircraft if necessary to ensure safety, provided certain precautions take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Authority has right after accident to access, secure, inspect or remove an aircraft or its contents, subject to TAIC jurisdi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2.103 – Duty to preserve all aircraft records including all recording media on aircraft for at least 14 days following accident or serious incid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112.105 – duty to retain defective product or component for at least 14 days after submitting defect report to CAA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684360" y="155736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4A Failure to comply with s15 inspection or monitoring request – substantial fines including for continuing non-complian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49 – Failure to disclose relevant information or providing false information – fines and up to 12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 - Obstruction of duly authorised person carrying out Director’s functions – fine and up to 3 months imprison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0A – Failure to comply with s24(3) requirement to produce or surrender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 – Failure to maintain accurate records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A – Failure to notify emergency breach of rules - fin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52B – Failure to notify accident or incident under s 26 – fin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Director’s exit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900000" y="1347840"/>
            <a:ext cx="73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s17 – 20 Power to suspend, impose conditions or revoke aviation docume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May follow single incident or series of incidents; may follow s15A investigation but not necessari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Exercise of exit powers (other than suspension or temporary conditions) subject to s11 Proposed Adverse Decision proce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f exited from system, no bar to re-entry or minimum time frame, however re-entry subject to Director’s assessment of suitability (time since events leading to exit, subsequent behaviour, FPP assessment etc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Key obligations to bear in mind – s12 obligations and s10 FPP requirement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39360"/>
            <a:ext cx="5948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900000" y="141300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Role of the Minister and CA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nspection and monito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15A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24 General power of access and entry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Safety Investig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Offence prov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Exit powers and adverse decis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6280" y="681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posed adverse deci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811080" y="1628640"/>
            <a:ext cx="7559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Direct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sclose any adverse information taken into account and allow the person to refute or comment on it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any proposed adverse decision, and consider any submissions, in accordance with s11; a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ify the final decision and, if it is adverse, explain the consequenc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66 – Right of appeal against adverse decisions affecting validity and exercise of privileges of aviation documen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ote - currently no direct right of appeal by senior person against adverse FPP determination/decision not to approve senior pers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Avenues of Redres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187280" y="1628640"/>
            <a:ext cx="6409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fficial Information Act/Privacy Act reques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ain/elevate matters within CAA – senior management; Dir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nsider approach to Board/Minis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ervice Charter Complai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Ombudsmen invest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ecourse to the Courts – statutory appeal rights, judicial review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Se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NZ Aviation News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NZ" sz="1200" spc="-1" strike="noStrike">
                <a:solidFill>
                  <a:srgbClr val="000000"/>
                </a:solidFill>
                <a:latin typeface="Century Gothic"/>
              </a:rPr>
              <a:t>Legal Lounge </a:t>
            </a:r>
            <a:r>
              <a:rPr b="1" lang="en-NZ" sz="1200" spc="-1" strike="noStrike">
                <a:solidFill>
                  <a:srgbClr val="000000"/>
                </a:solidFill>
                <a:latin typeface="Century Gothic"/>
              </a:rPr>
              <a:t>articles</a:t>
            </a:r>
            <a:r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, December 2011 for more discussion on the different focus and obligations during administrative, safety and law enforcement investigations; and October 2011 for more information on avenues of redress; earlier articles also discuss FPP and prosecution issues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Minist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116000" y="1484280"/>
            <a:ext cx="6840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Minister of Transport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 Objective: carry out functions in a way that contributes to aim of achieving an integrated, safe, responsive and sustainable transport syste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4A Function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promote safety i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NZ’s participation in ICAO and other international agreements on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er any Crown interests in aerodrom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make the Civil Aviation Rul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Bears ultimate responsibility for establishment of search and rescue centre for maritime and aviation search and rescue oper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e of the CA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116000" y="1395360"/>
            <a:ext cx="71280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CAA: Crown Entity, Minister appointed board (“the Authority”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AA Objective: to undertake its safety and security functions in a way that… achieves an integrated, safe, responsive and sustainable transport system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72B Functions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motion of civil aviation safety and security in NZ and internationally; including education func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intain records, ensure publication of aeronautical char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 investigate civil aviation accidents and incidents (subject to TAIC jurisdiction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156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042920" y="765000"/>
            <a:ext cx="73454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carry out Aviation Security Service func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stablish and publish CAA Service Chart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ovide information and advice to the Minister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nter into technical or operational agreements with other ICAO states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ppoint the Director of Civil Avi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The Authority must, if directed by the Minister (s72B)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perate and maintain the search and rescue centre, or participate in a search and rescue oper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mplement a government policy if directed to under the Crown Entities A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rector’s powe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378080"/>
            <a:ext cx="6840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Overview of powers (s 72I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exercise control over entry into the system through granting of aviation documents (ss6 – 9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arry out inspections and monitoring of participants in the system(s15)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conduct investigations of aviation document holders to ensure compliance with the Civil Aviation Act or Rules (s15A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take action to enforce the Civil Aviation Act or Rules, which may be through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w enforcement action for breach of the Act or Rules; and/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971640" y="765000"/>
            <a:ext cx="73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ministrative action against aviation document holders (ss17-20) (exit control powe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detain or seize aircraft or aeronautical products if it may endanger persons or property (s21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issue airworthiness directives in respect of an unsafe condition in an aircraft or aeronautical produ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Director may delegate his powers to employees except for s18 power to revoke aviation documents; with the Minister’s consent external contractors may also be delegated most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Note – </a:t>
            </a: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In exercising the Director’s statutory powers the Director must act independently of the Minister and Authority = Minister and Authority cannot  intervene in specific decisions (eg in a decision to revoke or suspend an aviation document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spection and monitoring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768240" y="1557360"/>
            <a:ext cx="7259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1) - Power to require participants to undergo such inspection and monitoring as considered “necessary in the interests of aviation safety”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S15(3) – Director may request such information as is considered necessary as part of inspection and monitoring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AA practice -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audit of certified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outine annual inspections of other organisa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argeted or random inspections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exposition (certified operators) or compliance with rules and ops manual (uncertified operator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Question – Risk Surveillance approach – move to targeted auditing of operators based on risk – is this happening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Investigation power (s15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768240" y="155736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Power to require holder of aviation document to undergo investigation if the Director –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s reasonable grounds to believe holder of aviation document failing to comply with section 12 or conditions on aviation document; or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s the privileges or duties pertaining to the document are being carried out carelessly or incompetently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Nature of s15A investigation – administrative - linked to entry and exit control pow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Focus on s12 (requirements on participants to comply with CA Act and Rules) and s10 (FPP requirement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cp:lastPrinted>2012-08-09T02:38:27Z</cp:lastPrinted>
  <dcterms:modified xsi:type="dcterms:W3CDTF">2012-08-11T06:07:15Z</dcterms:modified>
  <cp:revision>131</cp:revision>
  <dc:subject/>
  <dc:title>The FPP Test: What you need to know</dc:title>
</cp:coreProperties>
</file>