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8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3800" cy="370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ftr" idx="9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 type="sldNum" idx="10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CFF6F-6023-461B-BDD1-002E029DC444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171B8-2E6D-447B-9B6C-EBB8ECB185D3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9CA32-3463-45A9-AB9F-C18A9EF52A7E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E9306-1828-4630-A4C2-EE360976FA40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D06F-79C1-410C-AB33-9C6C0A2DB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476E-BD37-4066-B259-BF5DF1044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CFB3-DF03-4D18-AEA5-187B4E671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CBD2-6B75-44D1-9151-7EB28C443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70805-34EA-4FDF-9EB0-6F6654771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FBAC3-643C-4EB2-8441-713FB9182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12876-AE14-4EE0-B0A1-C69264223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F63F3-8370-428F-AC37-5C19DA5ED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F935E-A8B0-48BA-9FC5-CE4D9DA6D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FC71A-7FA3-4549-B833-F414EC240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EBAEB-4D75-4775-9E31-3BF8AED8C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8F2E-C378-4EE4-8E79-400E7C8C9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E8138-C48E-43F4-823D-FE2556763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A6B1A-FE18-4CBD-8632-A09C90413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0A343-6399-4780-97A2-4DCB361BD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34960-9D3C-453D-A5D7-B2D107FEC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1C0D8-3136-4202-A1CA-1173B35FF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CD40-01F9-4F4E-A94A-75CB6F654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4B58-AC9B-4F22-A726-2F51809EB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5332-B897-40B2-A3B9-AECB8EB77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367E-0667-4CB5-8EE1-E58B442E5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5D3B-589A-4BBC-A3B6-BFF621D30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CC2B-691D-4DCC-ABDD-BC1DC6C59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1CDD-CD6A-40E5-B4DD-DBA349615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Palatino Linotyp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1AD06-8BF6-4B1B-936C-C8A552F4E2BA}" type="datetime">
              <a:rPr b="0" lang="en-US" sz="1200" spc="-1" strike="noStrike">
                <a:solidFill>
                  <a:srgbClr val="898989"/>
                </a:solidFill>
                <a:latin typeface="Palatino Linotype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Palatino Linotyp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57BF4-23CE-4F61-A0C0-F5C6B3489489}" type="slidenum">
              <a:rPr b="0" lang="en-US" sz="1200" spc="-1" strike="noStrike">
                <a:solidFill>
                  <a:srgbClr val="898989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3" name="Picture 6" descr="AMC logo plane.jpg"/>
          <p:cNvPicPr/>
          <p:nvPr/>
        </p:nvPicPr>
        <p:blipFill>
          <a:blip r:embed="rId2"/>
          <a:stretch/>
        </p:blipFill>
        <p:spPr>
          <a:xfrm>
            <a:off x="7792920" y="6093000"/>
            <a:ext cx="1059120" cy="6490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Palatino Linotyp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31EF4-860A-435E-B32B-8DB7C96E6E57}" type="datetime">
              <a:rPr b="0" lang="en-US" sz="1200" spc="-1" strike="noStrike">
                <a:solidFill>
                  <a:srgbClr val="898989"/>
                </a:solidFill>
                <a:latin typeface="Palatino Linotype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Palatino Linotyp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C1B0E-EF2C-4999-B133-05435CBDF804}" type="slidenum">
              <a:rPr b="0" lang="en-US" sz="1200" spc="-1" strike="noStrike">
                <a:solidFill>
                  <a:srgbClr val="898989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6" descr="AMC logo plane.jpg"/>
          <p:cNvPicPr/>
          <p:nvPr/>
        </p:nvPicPr>
        <p:blipFill>
          <a:blip r:embed="rId2"/>
          <a:stretch/>
        </p:blipFill>
        <p:spPr>
          <a:xfrm>
            <a:off x="7792920" y="6093000"/>
            <a:ext cx="1059120" cy="649080"/>
          </a:xfrm>
          <a:prstGeom prst="rect">
            <a:avLst/>
          </a:prstGeom>
          <a:ln w="0">
            <a:noFill/>
          </a:ln>
        </p:spPr>
      </p:pic>
      <p:sp>
        <p:nvSpPr>
          <p:cNvPr id="84" name="Straight Connector 10"/>
          <p:cNvSpPr/>
          <p:nvPr/>
        </p:nvSpPr>
        <p:spPr>
          <a:xfrm>
            <a:off x="395280" y="6381720"/>
            <a:ext cx="741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5" name="Footer Placeholder 6"/>
          <p:cNvSpPr/>
          <p:nvPr/>
        </p:nvSpPr>
        <p:spPr>
          <a:xfrm>
            <a:off x="395280" y="260280"/>
            <a:ext cx="8440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a7cd39"/>
                </a:solidFill>
                <a:latin typeface="Century Gothic"/>
              </a:rPr>
              <a:t>Aviation Industry Association 2013 Aviation Week conference</a:t>
            </a: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ftr" idx="7"/>
          </p:nvPr>
        </p:nvSpPr>
        <p:spPr>
          <a:xfrm>
            <a:off x="394920" y="6381360"/>
            <a:ext cx="750420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amclegal.co.nz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995200"/>
            <a:ext cx="7772400" cy="15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Century Gothic"/>
                <a:ea typeface="Arial"/>
              </a:rPr>
              <a:t>Duties and obligations of Directors and officer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631800" y="5300640"/>
            <a:ext cx="78804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a7cd39"/>
                </a:solidFill>
                <a:latin typeface="Century Gothic"/>
                <a:ea typeface="Arial"/>
              </a:rPr>
              <a:t>Aviation Industry Association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a7cd39"/>
                </a:solidFill>
                <a:latin typeface="Century Gothic"/>
                <a:ea typeface="Arial"/>
              </a:rPr>
              <a:t>2013 Aviation Week conference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34" name="Picture 3" descr="C:\Users\Angela Beazer\Documents\AMC Legal Services Ltd\AMC company info, tax, std terms of engagement\AMC logo tagline.jpg"/>
          <p:cNvPicPr/>
          <p:nvPr/>
        </p:nvPicPr>
        <p:blipFill>
          <a:blip r:embed="rId1"/>
          <a:stretch/>
        </p:blipFill>
        <p:spPr>
          <a:xfrm>
            <a:off x="3089160" y="660240"/>
            <a:ext cx="2965680" cy="16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8360" y="55692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entury Gothic"/>
              </a:rPr>
              <a:t>Easy Rider – what happened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7" name="Footer Placeholder 2"/>
          <p:cNvSpPr/>
          <p:nvPr/>
        </p:nvSpPr>
        <p:spPr>
          <a:xfrm>
            <a:off x="395280" y="6381720"/>
            <a:ext cx="7504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amclegal.co.nz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755640" y="1433520"/>
            <a:ext cx="7575480" cy="42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Palatino Linotype"/>
              </a:rPr>
              <a:t>Easy Rider capsized and sank in Foveaux Strait 15 March 2012, with the loss of eight lives and one survivor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Palatino Linotype"/>
              </a:rPr>
              <a:t>TAIC Findings: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  <a:ea typeface="Arial"/>
              </a:rPr>
              <a:t>The vessel was loaded with too much weight, stacked too high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  <a:ea typeface="Arial"/>
              </a:rPr>
              <a:t>Vessel design flaws meant it had limited stability reserves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  <a:ea typeface="Arial"/>
              </a:rPr>
              <a:t>Weather forecast was for gale force winds, unsuitable for voyage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  <a:ea typeface="Arial"/>
              </a:rPr>
              <a:t>Large wave engulfed boat; caused the vessel to roll and capsize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  <a:ea typeface="Arial"/>
              </a:rPr>
              <a:t>Insufficient life jackets on board for all persons; life raft only capable of holding four people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  <a:ea typeface="Arial"/>
              </a:rPr>
              <a:t>Skipper did not hold required skippers certificate, and did not understand concept of vessel stability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  <a:ea typeface="Arial"/>
              </a:rPr>
              <a:t>Vessel was operating as commercial fishing vessel and was not authorised to carry passengers and their equipment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5569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entury Gothic"/>
              </a:rPr>
              <a:t>Prosecution – AZ1 Enterprises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0" name="Footer Placeholder 2"/>
          <p:cNvSpPr/>
          <p:nvPr/>
        </p:nvSpPr>
        <p:spPr>
          <a:xfrm>
            <a:off x="395280" y="6381720"/>
            <a:ext cx="7504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amclegal.co.nz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826920" y="1341360"/>
            <a:ext cx="7502760" cy="47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 u="sng">
                <a:solidFill>
                  <a:srgbClr val="000000"/>
                </a:solidFill>
                <a:uFillTx/>
                <a:latin typeface="Palatino Linotype"/>
              </a:rPr>
              <a:t>Maritime Transport Act 1994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It operated the ship knowing that a maritime document was required (skippers certificate) and knowing it was not held: s68(2)(a) MTA</a:t>
            </a:r>
            <a:br>
              <a:rPr sz="1600"/>
            </a:br>
            <a:r>
              <a:rPr b="0" i="1" lang="en-NZ" sz="1400" spc="-1" strike="noStrike">
                <a:solidFill>
                  <a:srgbClr val="000000"/>
                </a:solidFill>
                <a:latin typeface="Palatino Linotype"/>
              </a:rPr>
              <a:t>CAA equivalent:  s46(1)(a) – maximum fine $100,000</a:t>
            </a: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It caused or permitted the ship to be operated in a manner causing unnecessary danger or risk to the persons on board:  s65(2)(a) MTA</a:t>
            </a:r>
            <a:br>
              <a:rPr sz="1600"/>
            </a:br>
            <a:r>
              <a:rPr b="0" i="1" lang="en-NZ" sz="1400" spc="-1" strike="noStrike">
                <a:solidFill>
                  <a:srgbClr val="000000"/>
                </a:solidFill>
                <a:latin typeface="Palatino Linotype"/>
              </a:rPr>
              <a:t>CAA equivalent:  s44(2)(a) – maximum fine $100,000</a:t>
            </a:r>
            <a:br>
              <a:rPr sz="1400"/>
            </a:br>
            <a:r>
              <a:rPr b="0" i="1" lang="en-NZ" sz="1400" spc="-1" strike="noStrike">
                <a:solidFill>
                  <a:srgbClr val="000000"/>
                </a:solidFill>
                <a:latin typeface="Palatino Linotype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 u="sng">
                <a:solidFill>
                  <a:srgbClr val="000000"/>
                </a:solidFill>
                <a:uFillTx/>
                <a:latin typeface="Palatino Linotype"/>
              </a:rPr>
              <a:t>Health and Safety in Employment Act 1982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As an employer, it failed to take all practicable steps to ensure: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  <a:ea typeface="Arial"/>
              </a:rPr>
              <a:t>the safety of its employees while on board the ship:  s6 and 50(1)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  <a:ea typeface="Arial"/>
              </a:rPr>
              <a:t>That no action or inaction of any employee while at work harmed any other person on board the ship:  s15 and 50(1)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As principal, it failed to take all practicable steps to ensure that no contractor or subcontractor was harmed while doing work on board the ship that he was engaged to do:  s18 and 50(1)</a:t>
            </a:r>
            <a:br>
              <a:rPr sz="1600"/>
            </a:br>
            <a:r>
              <a:rPr b="0" i="1" lang="en-NZ" sz="1400" spc="-1" strike="noStrike">
                <a:solidFill>
                  <a:srgbClr val="000000"/>
                </a:solidFill>
                <a:latin typeface="Palatino Linotype"/>
              </a:rPr>
              <a:t>Maximum fines up to $250,000 each</a:t>
            </a: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68360" y="556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entury Gothic"/>
              </a:rPr>
              <a:t>Prosecution – Gloria Davis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3" name="Footer Placeholder 2"/>
          <p:cNvSpPr/>
          <p:nvPr/>
        </p:nvSpPr>
        <p:spPr>
          <a:xfrm>
            <a:off x="395280" y="6381720"/>
            <a:ext cx="7504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amclegal.co.nz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885960" y="1181160"/>
            <a:ext cx="7705440" cy="52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 u="sng">
                <a:solidFill>
                  <a:srgbClr val="000000"/>
                </a:solidFill>
                <a:uFillTx/>
                <a:latin typeface="Palatino Linotype"/>
              </a:rPr>
              <a:t>Maritime Transport Act 1994 </a:t>
            </a:r>
            <a:r>
              <a:rPr b="0" lang="en-NZ" sz="1800" spc="-1" strike="noStrike">
                <a:solidFill>
                  <a:srgbClr val="000000"/>
                </a:solidFill>
                <a:latin typeface="Palatino Linotype"/>
              </a:rPr>
              <a:t> and </a:t>
            </a:r>
            <a:r>
              <a:rPr b="0" lang="en-NZ" sz="1800" spc="-1" strike="noStrike" u="sng">
                <a:solidFill>
                  <a:srgbClr val="000000"/>
                </a:solidFill>
                <a:uFillTx/>
                <a:latin typeface="Palatino Linotype"/>
              </a:rPr>
              <a:t>s66 Crimes Act 1961</a:t>
            </a:r>
            <a:r>
              <a:rPr b="0" lang="en-NZ" sz="1800" spc="-1" strike="noStrike">
                <a:solidFill>
                  <a:srgbClr val="000000"/>
                </a:solidFill>
                <a:latin typeface="Palatino Linotype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She operated the ship knowing that a maritime document was required (skippers certificate) and knowing it was not held: s68(2)(a) MTA </a:t>
            </a:r>
            <a:br>
              <a:rPr sz="1600"/>
            </a:br>
            <a:r>
              <a:rPr b="0" i="1" lang="en-NZ" sz="1400" spc="-1" strike="noStrike">
                <a:solidFill>
                  <a:srgbClr val="000000"/>
                </a:solidFill>
                <a:latin typeface="Palatino Linotype"/>
              </a:rPr>
              <a:t>CAA equivalent:  s46(1)(a) – maximum fine $10,000</a:t>
            </a: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She caused or permitted the ship to be operated in a manner causing unnecessary danger or risk to the persons on board:  s65(2)(a) MTA</a:t>
            </a:r>
            <a:br>
              <a:rPr sz="1600"/>
            </a:br>
            <a:r>
              <a:rPr b="0" i="1" lang="en-NZ" sz="1400" spc="-1" strike="noStrike">
                <a:solidFill>
                  <a:srgbClr val="000000"/>
                </a:solidFill>
                <a:latin typeface="Palatino Linotype"/>
              </a:rPr>
              <a:t>CAA equivalent:  s44(2)(a) – maximum fine $10,000</a:t>
            </a:r>
            <a:br>
              <a:rPr sz="1400"/>
            </a:br>
            <a:r>
              <a:rPr b="0" i="1" lang="en-NZ" sz="1400" spc="-1" strike="noStrike">
                <a:solidFill>
                  <a:srgbClr val="000000"/>
                </a:solidFill>
                <a:latin typeface="Palatino Linotype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 u="sng">
                <a:solidFill>
                  <a:srgbClr val="000000"/>
                </a:solidFill>
                <a:uFillTx/>
                <a:latin typeface="Palatino Linotype"/>
              </a:rPr>
              <a:t>Health and Safety in Employment Act 1982</a:t>
            </a:r>
            <a:r>
              <a:rPr b="0" lang="en-NZ" sz="1800" spc="-1" strike="noStrike">
                <a:solidFill>
                  <a:srgbClr val="000000"/>
                </a:solidFill>
                <a:latin typeface="Palatino Linotype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As a director, she  </a:t>
            </a:r>
            <a:r>
              <a:rPr b="0" i="1" lang="en-NZ" sz="1600" spc="-1" strike="noStrike">
                <a:solidFill>
                  <a:srgbClr val="000000"/>
                </a:solidFill>
                <a:latin typeface="Palatino Linotype"/>
              </a:rPr>
              <a:t>acquiesced and participated in </a:t>
            </a: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the failure of AZ1 Enterprises Ltd as an employer to take all practicable steps to ensure: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lvl="1" marL="4572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  <a:ea typeface="Arial"/>
              </a:rPr>
              <a:t> </a:t>
            </a:r>
            <a:r>
              <a:rPr b="0" lang="en-NZ" sz="1600" spc="-1" strike="noStrike">
                <a:solidFill>
                  <a:srgbClr val="000000"/>
                </a:solidFill>
                <a:latin typeface="Palatino Linotype"/>
                <a:ea typeface="Arial"/>
              </a:rPr>
              <a:t>-  </a:t>
            </a:r>
            <a:r>
              <a:rPr b="0" lang="en-NZ" sz="1600" spc="-1" strike="noStrike">
                <a:solidFill>
                  <a:srgbClr val="000000"/>
                </a:solidFill>
                <a:latin typeface="Palatino Linotype"/>
                <a:ea typeface="Arial"/>
              </a:rPr>
              <a:t>	</a:t>
            </a:r>
            <a:r>
              <a:rPr b="0" lang="en-NZ" sz="1600" spc="-1" strike="noStrike">
                <a:solidFill>
                  <a:srgbClr val="000000"/>
                </a:solidFill>
                <a:latin typeface="Palatino Linotype"/>
                <a:ea typeface="Arial"/>
              </a:rPr>
              <a:t>the safety of its employees while on board the ship:  s6 and 50(1)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lvl="1" marL="4572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  <a:ea typeface="Arial"/>
              </a:rPr>
              <a:t> </a:t>
            </a:r>
            <a:r>
              <a:rPr b="0" lang="en-NZ" sz="1600" spc="-1" strike="noStrike">
                <a:solidFill>
                  <a:srgbClr val="000000"/>
                </a:solidFill>
                <a:latin typeface="Palatino Linotype"/>
                <a:ea typeface="Arial"/>
              </a:rPr>
              <a:t>-</a:t>
            </a:r>
            <a:r>
              <a:rPr b="0" lang="en-NZ" sz="1600" spc="-1" strike="noStrike">
                <a:solidFill>
                  <a:srgbClr val="000000"/>
                </a:solidFill>
                <a:latin typeface="Palatino Linotype"/>
                <a:ea typeface="Arial"/>
              </a:rPr>
              <a:t>	</a:t>
            </a:r>
            <a:r>
              <a:rPr b="0" lang="en-NZ" sz="1600" spc="-1" strike="noStrike">
                <a:solidFill>
                  <a:srgbClr val="000000"/>
                </a:solidFill>
                <a:latin typeface="Palatino Linotype"/>
                <a:ea typeface="Arial"/>
              </a:rPr>
              <a:t>that no action or inaction of any employee while at work harmed </a:t>
            </a:r>
            <a:r>
              <a:rPr b="0" lang="en-NZ" sz="1600" spc="-1" strike="noStrike">
                <a:solidFill>
                  <a:srgbClr val="000000"/>
                </a:solidFill>
                <a:latin typeface="Palatino Linotype"/>
                <a:ea typeface="Arial"/>
              </a:rPr>
              <a:t>	</a:t>
            </a:r>
            <a:r>
              <a:rPr b="0" lang="en-NZ" sz="1600" spc="-1" strike="noStrike">
                <a:solidFill>
                  <a:srgbClr val="000000"/>
                </a:solidFill>
                <a:latin typeface="Palatino Linotype"/>
                <a:ea typeface="Arial"/>
              </a:rPr>
              <a:t>any other person on board the ship:  s15 and 50(1)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As a director, she  </a:t>
            </a:r>
            <a:r>
              <a:rPr b="0" i="1" lang="en-NZ" sz="1600" spc="-1" strike="noStrike">
                <a:solidFill>
                  <a:srgbClr val="000000"/>
                </a:solidFill>
                <a:latin typeface="Palatino Linotype"/>
              </a:rPr>
              <a:t>acquiesced and participated in </a:t>
            </a: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the failure of AZ1 Enterprises Ltd as a principal to take all practicable steps to ensure that no contractor or subcontractor was harmed:  s18 and 50(1)</a:t>
            </a:r>
            <a:br>
              <a:rPr sz="1600"/>
            </a:br>
            <a:r>
              <a:rPr b="0" i="1" lang="en-NZ" sz="1400" spc="-1" strike="noStrike">
                <a:solidFill>
                  <a:srgbClr val="000000"/>
                </a:solidFill>
                <a:latin typeface="Palatino Linotype"/>
              </a:rPr>
              <a:t>Maximum fines up to $250,000 each</a:t>
            </a:r>
            <a:r>
              <a:rPr b="0" lang="en-NZ" sz="1800" spc="-1" strike="noStrike">
                <a:solidFill>
                  <a:srgbClr val="000000"/>
                </a:solidFill>
                <a:latin typeface="Palatino Linotype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8360" y="55728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entury Gothic"/>
              </a:rPr>
              <a:t>Pike River prosecutions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6" name="Footer Placeholder 2"/>
          <p:cNvSpPr/>
          <p:nvPr/>
        </p:nvSpPr>
        <p:spPr>
          <a:xfrm>
            <a:off x="395280" y="6381720"/>
            <a:ext cx="7504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amclegal.co.nz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67" name="Rectangle 3"/>
          <p:cNvSpPr/>
          <p:nvPr/>
        </p:nvSpPr>
        <p:spPr>
          <a:xfrm>
            <a:off x="900000" y="1557360"/>
            <a:ext cx="7775640" cy="411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Palatino Linotype"/>
              </a:rPr>
              <a:t>Pike River Coal Ltd (in receivership) is awaiting sentencing for nine charges, of failing to take “all practicable steps” to ensure: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  <a:ea typeface="Arial"/>
              </a:rPr>
              <a:t>The safety of its employees: s6, s50(1) x 4 charges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  <a:ea typeface="Arial"/>
              </a:rPr>
              <a:t>The safety of its contractors, subcontractors and their employees: s18, s50(1) x 4 charges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  <a:ea typeface="Arial"/>
              </a:rPr>
              <a:t>That no action or inaction of its employees harmed another person: s15, s50(1)</a:t>
            </a:r>
            <a:br>
              <a:rPr sz="1800"/>
            </a:br>
            <a:r>
              <a:rPr b="0" lang="en-NZ" sz="1800" spc="-1" strike="noStrike">
                <a:solidFill>
                  <a:srgbClr val="000000"/>
                </a:solidFill>
                <a:latin typeface="Palatino Linotyp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Palatino Linotype"/>
              </a:rPr>
              <a:t>Peter Whittall (CEO) is facing trial as an </a:t>
            </a:r>
            <a:r>
              <a:rPr b="0" lang="en-NZ" sz="1800" spc="-1" strike="noStrike" u="sng">
                <a:solidFill>
                  <a:srgbClr val="000000"/>
                </a:solidFill>
                <a:uFillTx/>
                <a:latin typeface="Palatino Linotype"/>
              </a:rPr>
              <a:t>officer</a:t>
            </a:r>
            <a:r>
              <a:rPr b="0" lang="en-NZ" sz="1800" spc="-1" strike="noStrike">
                <a:solidFill>
                  <a:srgbClr val="000000"/>
                </a:solidFill>
                <a:latin typeface="Palatino Linotype"/>
              </a:rPr>
              <a:t> of the company, with twelve offences: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  <a:ea typeface="Arial"/>
              </a:rPr>
              <a:t>That he </a:t>
            </a:r>
            <a:r>
              <a:rPr b="0" i="1" lang="en-NZ" sz="1600" spc="-1" strike="noStrike">
                <a:solidFill>
                  <a:srgbClr val="000000"/>
                </a:solidFill>
                <a:latin typeface="Palatino Linotype"/>
                <a:ea typeface="Arial"/>
              </a:rPr>
              <a:t>acquiesced or participated </a:t>
            </a:r>
            <a:r>
              <a:rPr b="0" lang="en-NZ" sz="1600" spc="-1" strike="noStrike">
                <a:solidFill>
                  <a:srgbClr val="000000"/>
                </a:solidFill>
                <a:latin typeface="Palatino Linotype"/>
                <a:ea typeface="Arial"/>
              </a:rPr>
              <a:t>in the failures of Pike River Coal Ltd as an employer (x 4) and as a principal (x 4); and 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  <a:ea typeface="Arial"/>
              </a:rPr>
              <a:t>That he failed as an employee to take all practicable steps to ensure that no action or inaction of his harmed another person (x 4)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46040" y="691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Century Gothic"/>
              </a:rPr>
              <a:t>Case law – director prosecutions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9" name="Footer Placeholder 2"/>
          <p:cNvSpPr/>
          <p:nvPr/>
        </p:nvSpPr>
        <p:spPr>
          <a:xfrm>
            <a:off x="395280" y="6381720"/>
            <a:ext cx="7504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amclegal.co.nz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70" name="Rectangle 1"/>
          <p:cNvSpPr/>
          <p:nvPr/>
        </p:nvSpPr>
        <p:spPr>
          <a:xfrm>
            <a:off x="755640" y="1557360"/>
            <a:ext cx="7920000" cy="47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1800" spc="-1" strike="noStrike">
                <a:solidFill>
                  <a:srgbClr val="000000"/>
                </a:solidFill>
                <a:latin typeface="Palatino Linotype"/>
              </a:rPr>
              <a:t>Department of Labour v IcePak Coolstores (2009)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Fire alarm activated in coolstore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Fire brigade attended, entered and attempted to deal with source when there was an explosion – one fire fighter killed, seven injured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Company had recently changed to a hydrocarbon-based refrigerant; environmentally friendlier and cheaper, but highly inflammable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System put in place by contractor company Mobile Refrigeration Systems via its sole employee Mr Cook did not meet standards AS/NZS 1677 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  <a:ea typeface="Arial"/>
              </a:rPr>
              <a:t>No continuous ventilation system, electrical equipment not explosion proof, inadequate gas detection device, no means of eliminating all sources of ignition on detection of a leak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Explosion caused by the leaking of a hydrocarbon-based refrigerant that somehow ignited – thought to be spark within the main switchboard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IcePak Coolstores accepted its own safety systems and practices were inadequate, safety equipment available to staff was inadequate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Footer Placeholder 2"/>
          <p:cNvSpPr/>
          <p:nvPr/>
        </p:nvSpPr>
        <p:spPr>
          <a:xfrm>
            <a:off x="395280" y="6381720"/>
            <a:ext cx="7504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amclegal.co.nz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72" name="Rectangle 3"/>
          <p:cNvSpPr/>
          <p:nvPr/>
        </p:nvSpPr>
        <p:spPr>
          <a:xfrm>
            <a:off x="684360" y="620640"/>
            <a:ext cx="7200720" cy="52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1800" spc="-1" strike="noStrike">
                <a:solidFill>
                  <a:srgbClr val="000000"/>
                </a:solidFill>
                <a:latin typeface="Palatino Linotype"/>
              </a:rPr>
              <a:t>Outcome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IcePak Coolstores pleaded guilty to: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  <a:ea typeface="Arial"/>
              </a:rPr>
              <a:t>s6 failing to take all practicable steps to ensure safety of its employees while at work ($30,000 fine)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  <a:ea typeface="Arial"/>
              </a:rPr>
              <a:t>s16(3) failing to warn person other than employee or contractor of risk of hazards ($95,000 reparation; fine $3,600*)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Mobile Refrigeration Specialists pleaded guilty to: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  <a:ea typeface="Arial"/>
              </a:rPr>
              <a:t>s15 failing to take all practicable steps to ensure that no action or inaction of its employee Mr Cook while at work caused harm (reparation $175,000 and fine $56,000)</a:t>
            </a:r>
            <a:br>
              <a:rPr sz="1600"/>
            </a:b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Wayne Grattan, Managing Director  of IcePak, pleaded guilty to: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  <a:ea typeface="Arial"/>
              </a:rPr>
              <a:t>s56,  as a director of the company he </a:t>
            </a:r>
            <a:r>
              <a:rPr b="0" i="1" lang="en-NZ" sz="1600" spc="-1" strike="noStrike">
                <a:solidFill>
                  <a:srgbClr val="000000"/>
                </a:solidFill>
                <a:latin typeface="Palatino Linotype"/>
                <a:ea typeface="Arial"/>
              </a:rPr>
              <a:t>acquiesced in </a:t>
            </a:r>
            <a:r>
              <a:rPr b="0" lang="en-NZ" sz="1600" spc="-1" strike="noStrike">
                <a:solidFill>
                  <a:srgbClr val="000000"/>
                </a:solidFill>
                <a:latin typeface="Palatino Linotype"/>
                <a:ea typeface="Arial"/>
              </a:rPr>
              <a:t>the failure of IcePak Coolstores to ensure the safety of its employees while at work (fine $30,000)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IcePak and Mr Grattan – offending assessed as low-medium culpability, starting point $50,00; MRS as medium-high culpability, starting point $100,000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ooter Placeholder 2"/>
          <p:cNvSpPr/>
          <p:nvPr/>
        </p:nvSpPr>
        <p:spPr>
          <a:xfrm>
            <a:off x="395280" y="6381720"/>
            <a:ext cx="7504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amclegal.co.nz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611280" y="641520"/>
            <a:ext cx="7705800" cy="55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Palatino Linotype"/>
              </a:rPr>
              <a:t>Western Australian case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Section 19 OSH Act – employer required “so far as is practicable” to provide and maintain a working environment in which employees are not exposed to hazards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s55 OSH Act – a director, manager, secretary or other officer will also be guilty of the offence if attributable to their </a:t>
            </a:r>
            <a:r>
              <a:rPr b="0" i="1" lang="en-NZ" sz="1600" spc="-1" strike="noStrike">
                <a:solidFill>
                  <a:srgbClr val="000000"/>
                </a:solidFill>
                <a:latin typeface="Palatino Linotype"/>
              </a:rPr>
              <a:t>“consent, connivance or neglect”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1600" spc="-1" strike="noStrike">
                <a:solidFill>
                  <a:srgbClr val="000000"/>
                </a:solidFill>
                <a:latin typeface="Palatino Linotype"/>
              </a:rPr>
              <a:t>Fry v Keating (2013), Western Australian Supreme Court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Mr Murrie, rigger operator, killed when pack of 16 crane components weighing over 375kg fell from a crane and struck him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D&amp;G Cranes prosecuted for breach of s19 OSH Act. Two directors prosecuted on the basis that the breach was attributable to their neglect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Two methods had been employed for lifting the crane packs: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  <a:ea typeface="Arial"/>
              </a:rPr>
              <a:t>Method 1 – a safe and appropriate method where all parts securely encapsulated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  <a:ea typeface="Arial"/>
              </a:rPr>
              <a:t>Method 2 – unsafe method, where all parts were not secure and some at risk of falling; some riggers had been known to use this method in the past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Footer Placeholder 2"/>
          <p:cNvSpPr/>
          <p:nvPr/>
        </p:nvSpPr>
        <p:spPr>
          <a:xfrm>
            <a:off x="395280" y="6381720"/>
            <a:ext cx="7504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amclegal.co.nz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611280" y="641520"/>
            <a:ext cx="7705800" cy="67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In 2004 risks of Method 2 identified and directors resolved that Method 1 should be the only method used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Evidence was that Yard Supervisor had number of administrative duties which prevented him from providing full attention to the work in the yards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In this instance, Method 2 had been used and the pack had slipped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i="1" lang="en-NZ" sz="1600" spc="-1" strike="noStrike">
                <a:solidFill>
                  <a:srgbClr val="000000"/>
                </a:solidFill>
                <a:latin typeface="Palatino Linotype"/>
              </a:rPr>
              <a:t>Findings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Court found D&amp;G Cranes failed to ensure Method 1 was in place and enforced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This omission caused Method 2 to be used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Method 2 was extremely dangerous and its use demonstrated failure of D&amp;G Cranes, so far as practicable, to provide and maintain work environment where employees not exposed to risk of being injured or killed as a result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D&amp;G Crane’s failure caused the death of Mr Murrie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The two directors were guilty of the offence due to their neglect in ensuring Method 1 was used at all times; appealed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1600" spc="-1" strike="noStrike">
                <a:solidFill>
                  <a:srgbClr val="000000"/>
                </a:solidFill>
                <a:latin typeface="Palatino Linotype"/>
              </a:rPr>
              <a:t>Appeal to WA Supreme Court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Supreme Court said the Directors were not remote from the business; they were hands on; in those circumstances, they were neglectful in being </a:t>
            </a:r>
            <a:r>
              <a:rPr b="0" lang="en-NZ" sz="1600" spc="-1" strike="noStrike" u="sng">
                <a:solidFill>
                  <a:srgbClr val="000000"/>
                </a:solidFill>
                <a:uFillTx/>
                <a:latin typeface="Palatino Linotype"/>
              </a:rPr>
              <a:t>unaware</a:t>
            </a: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 that the supervision had broken down and in failing to enforce Method 1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Footer Placeholder 2"/>
          <p:cNvSpPr/>
          <p:nvPr/>
        </p:nvSpPr>
        <p:spPr>
          <a:xfrm>
            <a:off x="395280" y="6381720"/>
            <a:ext cx="7504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amclegal.co.nz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78" name="Rectangle 3"/>
          <p:cNvSpPr/>
          <p:nvPr/>
        </p:nvSpPr>
        <p:spPr>
          <a:xfrm>
            <a:off x="611280" y="641520"/>
            <a:ext cx="770580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1600" spc="-1" strike="noStrike">
                <a:solidFill>
                  <a:srgbClr val="000000"/>
                </a:solidFill>
                <a:latin typeface="Palatino Linotype"/>
              </a:rPr>
              <a:t>Appeal to WA Court of Appeal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Directors appealed on grounds that prosecution had failed to prove that they </a:t>
            </a:r>
            <a:r>
              <a:rPr b="0" lang="en-NZ" sz="1600" spc="-1" strike="noStrike" u="sng">
                <a:solidFill>
                  <a:srgbClr val="000000"/>
                </a:solidFill>
                <a:uFillTx/>
                <a:latin typeface="Palatino Linotype"/>
              </a:rPr>
              <a:t>ought to have known </a:t>
            </a: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that Method 2 was being used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Directors claimed there was a system in place to deal with unsafe work practices, including supervision by the Yard Supervisor; that they hired qualified riggers; neither director saw Method 2 being used when they visited the yard; one director was overseas at the time of the incident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Appeal failed, Appeal Court highlighted fact that: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  <a:ea typeface="Arial"/>
              </a:rPr>
              <a:t>none of the employees had a consistent, documented induction process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  <a:ea typeface="Arial"/>
              </a:rPr>
              <a:t>there was no written safe working procedure documenting Method 1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  <a:ea typeface="Arial"/>
              </a:rPr>
              <a:t>the employees had no formal training in Method 1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  <a:ea typeface="Arial"/>
              </a:rPr>
              <a:t>no dedicated health and safety officer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  <a:ea typeface="Arial"/>
              </a:rPr>
              <a:t>the yard supervisor’s duties required his attention away from the yard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The Court held that the directors were not entitled to assume that Method 1 was being used at all times; they had a duty to take reasonable steps to ensure that it was in fact being used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2"/>
          <p:cNvSpPr/>
          <p:nvPr/>
        </p:nvSpPr>
        <p:spPr>
          <a:xfrm>
            <a:off x="395280" y="6381720"/>
            <a:ext cx="7504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amclegal.co.nz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80" name="Rectangle 3"/>
          <p:cNvSpPr/>
          <p:nvPr/>
        </p:nvSpPr>
        <p:spPr>
          <a:xfrm>
            <a:off x="716040" y="620640"/>
            <a:ext cx="7311960" cy="547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1800" spc="-1" strike="noStrike">
                <a:solidFill>
                  <a:srgbClr val="000000"/>
                </a:solidFill>
                <a:latin typeface="Palatino Linotype"/>
              </a:rPr>
              <a:t>Comment on implications for Easy Rider / Pike River cases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1600" spc="-1" strike="noStrike">
                <a:solidFill>
                  <a:srgbClr val="000000"/>
                </a:solidFill>
                <a:latin typeface="Palatino Linotype"/>
              </a:rPr>
              <a:t>“</a:t>
            </a:r>
            <a:r>
              <a:rPr b="0" i="1" lang="en-NZ" sz="1600" spc="-1" strike="noStrike">
                <a:solidFill>
                  <a:srgbClr val="000000"/>
                </a:solidFill>
                <a:latin typeface="Palatino Linotype"/>
              </a:rPr>
              <a:t>acquiesced” </a:t>
            </a: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not defined in HSE; not tested in </a:t>
            </a:r>
            <a:r>
              <a:rPr b="0" i="1" lang="en-NZ" sz="1600" spc="-1" strike="noStrike">
                <a:solidFill>
                  <a:srgbClr val="000000"/>
                </a:solidFill>
                <a:latin typeface="Palatino Linotype"/>
              </a:rPr>
              <a:t>IcePak</a:t>
            </a: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 due to guilty pleas; DoL’s position was the director was aware of the circumstances, was in a position to do something about it, and failed to do so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Western Australian case – took view that directors </a:t>
            </a:r>
            <a:r>
              <a:rPr b="0" lang="en-NZ" sz="1600" spc="-1" strike="noStrike" u="sng">
                <a:solidFill>
                  <a:srgbClr val="000000"/>
                </a:solidFill>
                <a:uFillTx/>
                <a:latin typeface="Palatino Linotype"/>
              </a:rPr>
              <a:t>ought to have known </a:t>
            </a: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that the safe method was not being consistently used – refer s2A HSE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In </a:t>
            </a:r>
            <a:r>
              <a:rPr b="0" i="1" lang="en-NZ" sz="1600" spc="-1" strike="noStrike">
                <a:solidFill>
                  <a:srgbClr val="000000"/>
                </a:solidFill>
                <a:latin typeface="Palatino Linotype"/>
              </a:rPr>
              <a:t>IcePak </a:t>
            </a: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the fact that Mr Grattan was a working director was considered relevant to DoL’s assessment that he was in a position to do something about it; in the Australian case, both directors also described as “hands on”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1600" spc="-1" strike="noStrike">
                <a:solidFill>
                  <a:srgbClr val="000000"/>
                </a:solidFill>
                <a:latin typeface="Palatino Linotype"/>
              </a:rPr>
              <a:t>Easy Rider </a:t>
            </a: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- Open to interpretation how </a:t>
            </a:r>
            <a:r>
              <a:rPr b="0" i="1" lang="en-NZ" sz="1600" spc="-1" strike="noStrike">
                <a:solidFill>
                  <a:srgbClr val="000000"/>
                </a:solidFill>
                <a:latin typeface="Palatino Linotype"/>
              </a:rPr>
              <a:t>“acquiesced or participated in” </a:t>
            </a: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will be applied to a “silent” director (assuming company found to have breached HSE Act) </a:t>
            </a:r>
            <a:br>
              <a:rPr sz="1600"/>
            </a:b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1600" spc="-1" strike="noStrike">
                <a:solidFill>
                  <a:srgbClr val="000000"/>
                </a:solidFill>
                <a:latin typeface="Palatino Linotype"/>
              </a:rPr>
              <a:t>Pike River </a:t>
            </a: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– strong parallels to the facts in </a:t>
            </a:r>
            <a:r>
              <a:rPr b="1" i="1" lang="en-NZ" sz="1600" spc="-1" strike="noStrike">
                <a:solidFill>
                  <a:srgbClr val="000000"/>
                </a:solidFill>
                <a:latin typeface="Palatino Linotype"/>
              </a:rPr>
              <a:t>IcePak</a:t>
            </a: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, regarding the reasons contributing to the explosion, and close involvement in the business; could result in liability for him as “officer” for acquiescing or participating in the breaches of the company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9800" y="62028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6" name="Footer Placeholder 2"/>
          <p:cNvSpPr/>
          <p:nvPr/>
        </p:nvSpPr>
        <p:spPr>
          <a:xfrm>
            <a:off x="395280" y="6381720"/>
            <a:ext cx="7504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amclegal.co.nz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37" name="Rectangle 1"/>
          <p:cNvSpPr/>
          <p:nvPr/>
        </p:nvSpPr>
        <p:spPr>
          <a:xfrm>
            <a:off x="1116000" y="1413000"/>
            <a:ext cx="7058160" cy="448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Palatino Linotype"/>
              </a:rPr>
              <a:t>Statutory duties of directors and officers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  <a:ea typeface="Arial"/>
              </a:rPr>
              <a:t>Company and commercial law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  <a:ea typeface="Arial"/>
              </a:rPr>
              <a:t>Industry Specific – Civil Aviation Act 1990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  <a:ea typeface="Arial"/>
              </a:rPr>
              <a:t>Health and Safety in Employment Act 1992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Palatino Linotype"/>
              </a:rPr>
              <a:t>Easy Rider 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  <a:ea typeface="Arial"/>
              </a:rPr>
              <a:t>What happened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  <a:ea typeface="Arial"/>
              </a:rPr>
              <a:t>Charges against AZ1 Enterprises Limited and Gloria Davis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Palatino Linotype"/>
              </a:rPr>
              <a:t>Pike River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  <a:ea typeface="Arial"/>
              </a:rPr>
              <a:t>Charges against Pike River Coal Ltd and Peter Whittall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Palatino Linotype"/>
              </a:rPr>
              <a:t>Case law on prosecution of directors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Palatino Linotype"/>
              </a:rPr>
              <a:t>Current law reform and other initiatives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4600" y="62028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Century Gothic"/>
              </a:rPr>
              <a:t>Current law reform initiatives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2" name="Footer Placeholder 2"/>
          <p:cNvSpPr/>
          <p:nvPr/>
        </p:nvSpPr>
        <p:spPr>
          <a:xfrm>
            <a:off x="395280" y="6381720"/>
            <a:ext cx="7504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amclegal.co.nz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83" name="Rectangle 3"/>
          <p:cNvSpPr/>
          <p:nvPr/>
        </p:nvSpPr>
        <p:spPr>
          <a:xfrm>
            <a:off x="865080" y="1413000"/>
            <a:ext cx="7128000" cy="526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Palatino Linotype"/>
              </a:rPr>
              <a:t>Health and Safety in Employment Act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Recommendations of Pike River Commission, and work of Government Task Force on health and safety 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  <a:ea typeface="Arial"/>
              </a:rPr>
              <a:t>likely to result in specific duties for directors under the HSE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  <a:ea typeface="Arial"/>
              </a:rPr>
              <a:t>likely to lead to greater enforcement of breaches by directors and </a:t>
            </a:r>
            <a:r>
              <a:rPr b="0" lang="en-NZ" sz="1600" spc="-1" strike="noStrike">
                <a:solidFill>
                  <a:srgbClr val="000000"/>
                </a:solidFill>
                <a:latin typeface="Palatino Linotype"/>
                <a:ea typeface="Arial"/>
              </a:rPr>
              <a:t>	</a:t>
            </a:r>
            <a:r>
              <a:rPr b="0" lang="en-NZ" sz="1600" spc="-1" strike="noStrike">
                <a:solidFill>
                  <a:srgbClr val="000000"/>
                </a:solidFill>
                <a:latin typeface="Palatino Linotype"/>
                <a:ea typeface="Arial"/>
              </a:rPr>
              <a:t>   officers of companies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Likely to see introduction of corporate manslaughter charge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  <a:ea typeface="Arial"/>
              </a:rPr>
              <a:t>Minister of Labour indicates he does not favour extending this to individual officers, directors or employees, but early days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  <a:ea typeface="Arial"/>
              </a:rPr>
              <a:t>Note also that individuals could be directly charged with manslaughter if causal link between death and conduct of individual</a:t>
            </a:r>
            <a:br>
              <a:rPr sz="1600"/>
            </a:br>
            <a:r>
              <a:rPr b="0" lang="en-NZ" sz="1600" spc="-1" strike="noStrike">
                <a:solidFill>
                  <a:srgbClr val="000000"/>
                </a:solidFill>
                <a:latin typeface="Palatino Linotype"/>
                <a:ea typeface="Arial"/>
              </a:rPr>
              <a:t>(refer: </a:t>
            </a:r>
            <a:r>
              <a:rPr b="0" i="1" lang="en-NZ" sz="1600" spc="-1" strike="noStrike">
                <a:solidFill>
                  <a:srgbClr val="000000"/>
                </a:solidFill>
                <a:latin typeface="Palatino Linotype"/>
                <a:ea typeface="Arial"/>
              </a:rPr>
              <a:t>R v Potts and Horrell</a:t>
            </a:r>
            <a:r>
              <a:rPr b="0" lang="en-NZ" sz="1600" spc="-1" strike="noStrike">
                <a:solidFill>
                  <a:srgbClr val="000000"/>
                </a:solidFill>
                <a:latin typeface="Palatino Linotype"/>
                <a:ea typeface="Arial"/>
              </a:rPr>
              <a:t>, convicted of manslaughter of pilot due to finding of gross negligence in performing maintenance work)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44600" y="62028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Century Gothic"/>
              </a:rPr>
              <a:t>Other initiatives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5" name="Footer Placeholder 2"/>
          <p:cNvSpPr/>
          <p:nvPr/>
        </p:nvSpPr>
        <p:spPr>
          <a:xfrm>
            <a:off x="395280" y="6381720"/>
            <a:ext cx="7504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amclegal.co.nz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865080" y="1413000"/>
            <a:ext cx="7128000" cy="47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Palatino Linotype"/>
              </a:rPr>
              <a:t>Health and Safety in Employment guidelines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Institute of Directors and MBIE 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  <a:ea typeface="Arial"/>
              </a:rPr>
              <a:t>Good Governance Practices and Guidelines for Managing Health and Safety Risks published (applies to 20+ employees)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  <a:ea typeface="Arial"/>
              </a:rPr>
              <a:t>Guidelines for smaller companies being developed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  <a:ea typeface="Arial"/>
              </a:rPr>
              <a:t>Other industry specific guidelines exist – see MBIE website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CAA – SMS initiatives currently under way – consider integrating SMS to incorporate all aspects of health and safety systems and processes </a:t>
            </a:r>
            <a:br>
              <a:rPr sz="1600"/>
            </a:br>
            <a:br>
              <a:rPr sz="1600"/>
            </a:b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Palatino Linotype"/>
              </a:rPr>
              <a:t>Commercial law reforms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Initiatives to introduce criminal offence provisions for breach of duties under Companies Act and Limited Partnerships Act – in particular, concerning duty not to carry on business in way that causes substantial losses to creditors; knowingly acting against best interests of company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9800" y="620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Statutory obligations and duties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9" name="Footer Placeholder 2"/>
          <p:cNvSpPr/>
          <p:nvPr/>
        </p:nvSpPr>
        <p:spPr>
          <a:xfrm>
            <a:off x="395280" y="6381720"/>
            <a:ext cx="7504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amclegal.co.nz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40" name="Rectangle 1"/>
          <p:cNvSpPr/>
          <p:nvPr/>
        </p:nvSpPr>
        <p:spPr>
          <a:xfrm>
            <a:off x="792000" y="1484280"/>
            <a:ext cx="7718760" cy="47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 u="sng">
                <a:solidFill>
                  <a:srgbClr val="000000"/>
                </a:solidFill>
                <a:uFillTx/>
                <a:latin typeface="Palatino Linotype"/>
              </a:rPr>
              <a:t>Companies Act 1993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  <a:ea typeface="Arial"/>
              </a:rPr>
              <a:t>Directors must manage, or direct or supervise the management of, the business and affairs of the company: s128(1)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  <a:ea typeface="Arial"/>
              </a:rPr>
              <a:t>Statutory duties of directors: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lvl="3" marL="1657440" indent="-285840"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  <a:ea typeface="Arial"/>
              </a:rPr>
              <a:t>to act in good faith and best interests of company (s131)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lvl="3" marL="1657440" indent="-285840"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  <a:ea typeface="Arial"/>
              </a:rPr>
              <a:t>not to incur obligations or trade recklessly (ss135, 136)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lvl="3" marL="1657440" indent="-285840"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  <a:ea typeface="Arial"/>
              </a:rPr>
              <a:t>to exercise the care, skill and due diligence expected of directors exercising their powers under the Act (s137)</a:t>
            </a:r>
            <a:br>
              <a:rPr sz="1600"/>
            </a:b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  <a:ea typeface="Arial"/>
              </a:rPr>
              <a:t>Duties primarily owed to company; liquidator and creditors can also take action to enforce duties; could result in personal liability of directors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Palatino Linotype"/>
              </a:rPr>
              <a:t>Other commercial statutes may impose specific duties giving rise to civil and/or criminal liability – eg finance company prosecutions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2"/>
          <p:cNvSpPr/>
          <p:nvPr/>
        </p:nvSpPr>
        <p:spPr>
          <a:xfrm>
            <a:off x="395280" y="6308640"/>
            <a:ext cx="75042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amclegal.co.nz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42" name="Rectangle 1"/>
          <p:cNvSpPr/>
          <p:nvPr/>
        </p:nvSpPr>
        <p:spPr>
          <a:xfrm>
            <a:off x="900000" y="836640"/>
            <a:ext cx="7704360" cy="57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 u="sng">
                <a:solidFill>
                  <a:srgbClr val="000000"/>
                </a:solidFill>
                <a:uFillTx/>
                <a:latin typeface="Palatino Linotype"/>
              </a:rPr>
              <a:t>Civil Aviation Act 1990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  <a:ea typeface="Arial"/>
              </a:rPr>
              <a:t>Definition of operate, in relation to an aircraft, includes “cause or permit” to be operated, whether or not the person is present with the aircraft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  <a:ea typeface="Arial"/>
              </a:rPr>
              <a:t>Offence provisions in the CA Act refer to persons who “cause or permit” an aircraft to be operated in a manner causing unnecessary danger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  <a:ea typeface="Arial"/>
              </a:rPr>
              <a:t>Easy Rider case – will test extent to which these provisions can apply to the director of an operator/owner company</a:t>
            </a:r>
            <a:br>
              <a:rPr sz="1600"/>
            </a:b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 u="sng">
                <a:solidFill>
                  <a:srgbClr val="000000"/>
                </a:solidFill>
                <a:uFillTx/>
                <a:latin typeface="Palatino Linotype"/>
              </a:rPr>
              <a:t>Aiding or abetting, being party to offence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Palatino Linotype"/>
              </a:rPr>
              <a:t>Tax Administration Act 1994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  <a:ea typeface="Arial"/>
              </a:rPr>
              <a:t>s148: Persons aiding or abetting offences may be prosecuted - could apply to directors – eg failure to account for PAYE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NZ" sz="1800" spc="-1" strike="noStrike">
                <a:solidFill>
                  <a:srgbClr val="000000"/>
                </a:solidFill>
                <a:latin typeface="Palatino Linotype"/>
              </a:rPr>
              <a:t>Crimes Act 1961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  <a:ea typeface="Arial"/>
              </a:rPr>
              <a:t>s66:  Parties to an offence – includes a person who does or omits an act for the purpose of aiding any person to commit an offence; or incites, counsels or procures commission of offence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44600" y="62064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Century Gothic"/>
              </a:rPr>
              <a:t>Health and Safety in Employment Act 1992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4" name="Footer Placeholder 2"/>
          <p:cNvSpPr/>
          <p:nvPr/>
        </p:nvSpPr>
        <p:spPr>
          <a:xfrm>
            <a:off x="395280" y="6381720"/>
            <a:ext cx="7504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amclegal.co.nz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992160" y="1785960"/>
            <a:ext cx="7129440" cy="48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Palatino Linotype"/>
              </a:rPr>
              <a:t>Object: To promote the prevention of harm to all persons at work and other persons in, or in the vicinity of, a place of work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 u="sng">
                <a:solidFill>
                  <a:srgbClr val="000000"/>
                </a:solidFill>
                <a:uFillTx/>
                <a:latin typeface="Palatino Linotype"/>
              </a:rPr>
              <a:t>Duties of employers</a:t>
            </a:r>
            <a:br>
              <a:rPr sz="2400"/>
            </a:br>
            <a:br>
              <a:rPr sz="2400"/>
            </a:b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Employers must take “all practicable steps” to ensure: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s6:  </a:t>
            </a: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The safety of employees while at work including to: 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  <a:ea typeface="Arial"/>
              </a:rPr>
              <a:t>  </a:t>
            </a:r>
            <a:r>
              <a:rPr b="0" lang="en-NZ" sz="1600" spc="-1" strike="noStrike">
                <a:solidFill>
                  <a:srgbClr val="000000"/>
                </a:solidFill>
                <a:latin typeface="Palatino Linotype"/>
                <a:ea typeface="Arial"/>
              </a:rPr>
              <a:t>	</a:t>
            </a:r>
            <a:r>
              <a:rPr b="0" lang="en-NZ" sz="1600" spc="-1" strike="noStrike">
                <a:solidFill>
                  <a:srgbClr val="000000"/>
                </a:solidFill>
                <a:latin typeface="Palatino Linotype"/>
                <a:ea typeface="Arial"/>
              </a:rPr>
              <a:t>   </a:t>
            </a:r>
            <a:r>
              <a:rPr b="0" lang="en-NZ" sz="1600" spc="-1" strike="noStrike">
                <a:solidFill>
                  <a:srgbClr val="000000"/>
                </a:solidFill>
                <a:latin typeface="Palatino Linotype"/>
                <a:ea typeface="Arial"/>
              </a:rPr>
              <a:t>-  provide a safe work environment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  <a:ea typeface="Arial"/>
              </a:rPr>
              <a:t>	</a:t>
            </a:r>
            <a:r>
              <a:rPr b="0" lang="en-NZ" sz="1600" spc="-1" strike="noStrike">
                <a:solidFill>
                  <a:srgbClr val="000000"/>
                </a:solidFill>
                <a:latin typeface="Palatino Linotype"/>
                <a:ea typeface="Arial"/>
              </a:rPr>
              <a:t>   </a:t>
            </a:r>
            <a:r>
              <a:rPr b="0" lang="en-NZ" sz="1600" spc="-1" strike="noStrike">
                <a:solidFill>
                  <a:srgbClr val="000000"/>
                </a:solidFill>
                <a:latin typeface="Palatino Linotype"/>
                <a:ea typeface="Arial"/>
              </a:rPr>
              <a:t>-  ensure that plant and equipment is safe for use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  <a:ea typeface="Arial"/>
              </a:rPr>
              <a:t>	</a:t>
            </a:r>
            <a:r>
              <a:rPr b="0" lang="en-NZ" sz="1600" spc="-1" strike="noStrike">
                <a:solidFill>
                  <a:srgbClr val="000000"/>
                </a:solidFill>
                <a:latin typeface="Palatino Linotype"/>
                <a:ea typeface="Arial"/>
              </a:rPr>
              <a:t>   </a:t>
            </a:r>
            <a:r>
              <a:rPr b="0" lang="en-NZ" sz="1600" spc="-1" strike="noStrike">
                <a:solidFill>
                  <a:srgbClr val="000000"/>
                </a:solidFill>
                <a:latin typeface="Palatino Linotype"/>
                <a:ea typeface="Arial"/>
              </a:rPr>
              <a:t>-  have systems to eliminate, isolate or minimise hazards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  <a:ea typeface="Arial"/>
              </a:rPr>
              <a:t>	</a:t>
            </a:r>
            <a:r>
              <a:rPr b="0" lang="en-NZ" sz="1600" spc="-1" strike="noStrike">
                <a:solidFill>
                  <a:srgbClr val="000000"/>
                </a:solidFill>
                <a:latin typeface="Palatino Linotype"/>
                <a:ea typeface="Arial"/>
              </a:rPr>
              <a:t>   </a:t>
            </a:r>
            <a:r>
              <a:rPr b="0" lang="en-NZ" sz="1600" spc="-1" strike="noStrike">
                <a:solidFill>
                  <a:srgbClr val="000000"/>
                </a:solidFill>
                <a:latin typeface="Palatino Linotype"/>
                <a:ea typeface="Arial"/>
              </a:rPr>
              <a:t>-  develop procedures for dealing with emergencies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s15:  </a:t>
            </a: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That no action or inaction of any employee while at work </a:t>
            </a: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harms any other person</a:t>
            </a: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s13:</a:t>
            </a: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Duty to provide adequate training and supervision of staff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Footer Placeholder 2"/>
          <p:cNvSpPr/>
          <p:nvPr/>
        </p:nvSpPr>
        <p:spPr>
          <a:xfrm>
            <a:off x="395280" y="6381720"/>
            <a:ext cx="7504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amclegal.co.nz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1042920" y="765000"/>
            <a:ext cx="6769080" cy="53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 u="sng">
                <a:solidFill>
                  <a:srgbClr val="000000"/>
                </a:solidFill>
                <a:uFillTx/>
                <a:latin typeface="Palatino Linotype"/>
              </a:rPr>
              <a:t>Duties of principals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s18: </a:t>
            </a: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Principals must take “all practicable steps” to ensure that no </a:t>
            </a: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contractor or subcontractor, or their employees, is harmed </a:t>
            </a: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while working for the principal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 u="sng">
                <a:solidFill>
                  <a:srgbClr val="000000"/>
                </a:solidFill>
                <a:uFillTx/>
                <a:latin typeface="Palatino Linotype"/>
              </a:rPr>
              <a:t>Duties of persons controlling place of work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s16:</a:t>
            </a: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Person who controls place of work must take “all practicable </a:t>
            </a: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steps” to ensure no hazard in workplace harms person </a:t>
            </a: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lawfully working in the workplace; 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 u="sng">
                <a:solidFill>
                  <a:srgbClr val="000000"/>
                </a:solidFill>
                <a:uFillTx/>
                <a:latin typeface="Palatino Linotype"/>
              </a:rPr>
              <a:t>Duties of employees </a:t>
            </a:r>
            <a:br>
              <a:rPr sz="1000"/>
            </a:br>
            <a:br>
              <a:rPr sz="1000"/>
            </a:b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s19:</a:t>
            </a: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Employees must take “all practicable steps” to ensure </a:t>
            </a: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their own safety at work; and that no action or inaction of </a:t>
            </a: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the employee while at work causes harm to any other person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2"/>
          <p:cNvSpPr/>
          <p:nvPr/>
        </p:nvSpPr>
        <p:spPr>
          <a:xfrm>
            <a:off x="395280" y="6381720"/>
            <a:ext cx="7504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amclegal.co.nz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971640" y="692280"/>
            <a:ext cx="7200720" cy="54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 u="sng">
                <a:solidFill>
                  <a:srgbClr val="000000"/>
                </a:solidFill>
                <a:uFillTx/>
                <a:latin typeface="Palatino Linotype"/>
              </a:rPr>
              <a:t>No specific duties for directors or officers BUT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s56(1) Directors, officers or agents who have </a:t>
            </a:r>
            <a:r>
              <a:rPr b="0" i="1" lang="en-NZ" sz="1600" spc="-1" strike="noStrike">
                <a:solidFill>
                  <a:srgbClr val="000000"/>
                </a:solidFill>
                <a:latin typeface="Palatino Linotype"/>
              </a:rPr>
              <a:t>“directed, authorised, assented to, acquiesced in, or participated in”, </a:t>
            </a: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the failure of a body corporate to comply with the Act, is party to and guilty of the failure, and subject to same penalties</a:t>
            </a:r>
            <a:br>
              <a:rPr sz="1600"/>
            </a:b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S56(2) Extends to directors, officers, agents or senior managers of Crown organisations</a:t>
            </a:r>
            <a:br>
              <a:rPr sz="1600"/>
            </a:b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Applies whether or not the entity is prosecuted =  liquidation of company does not prohibit action against directors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Palatino Linotype"/>
              </a:rPr>
              <a:t>Contravention of above provisions by any person is an offence liable to conviction and fine of up to $250,000:  s50(1)</a:t>
            </a:r>
            <a:br>
              <a:rPr sz="1600"/>
            </a:b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Note – reparation orders must also be considered – Sentencing Act requirement – this may affect level of any fines imposed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360" y="6285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entury Gothic"/>
              </a:rPr>
              <a:t>“</a:t>
            </a:r>
            <a:r>
              <a:rPr b="0" lang="en-NZ" sz="4400" spc="-1" strike="noStrike">
                <a:solidFill>
                  <a:srgbClr val="000000"/>
                </a:solidFill>
                <a:latin typeface="Century Gothic"/>
              </a:rPr>
              <a:t>All practicable steps”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1" name="Footer Placeholder 2"/>
          <p:cNvSpPr/>
          <p:nvPr/>
        </p:nvSpPr>
        <p:spPr>
          <a:xfrm>
            <a:off x="395280" y="6381720"/>
            <a:ext cx="7504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amclegal.co.nz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957240" y="1557360"/>
            <a:ext cx="7502400" cy="42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s2A(1):  Must take all steps to achieve a safe result that it is </a:t>
            </a:r>
            <a:r>
              <a:rPr b="1" lang="en-NZ" sz="1600" spc="-1" strike="noStrike">
                <a:solidFill>
                  <a:srgbClr val="000000"/>
                </a:solidFill>
                <a:latin typeface="Palatino Linotype"/>
              </a:rPr>
              <a:t>reasonably </a:t>
            </a:r>
            <a:r>
              <a:rPr b="1" lang="en-NZ" sz="16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lang="en-NZ" sz="1600" spc="-1" strike="noStrike">
                <a:solidFill>
                  <a:srgbClr val="000000"/>
                </a:solidFill>
                <a:latin typeface="Palatino Linotype"/>
              </a:rPr>
              <a:t>  practicable</a:t>
            </a: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 to take in the circumstances, having regard to 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  <a:ea typeface="Arial"/>
              </a:rPr>
              <a:t>The nature and severity of any injury or harm that may occur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  <a:ea typeface="Arial"/>
              </a:rPr>
              <a:t>The degree of risk or probability of injury or harm occurring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  <a:ea typeface="Arial"/>
              </a:rPr>
              <a:t>How much is known about a hazard, and any means of eliminating, isolating or minimising the hazard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  <a:ea typeface="Arial"/>
              </a:rPr>
              <a:t>The availability and cost of safeguards (weighed against the potential consequences of failing to provide those safeguards)</a:t>
            </a:r>
            <a:br>
              <a:rPr sz="1600"/>
            </a:b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s2A(2):  Person required to take all practicable steps – only required to take those steps in respect of circumstances that the person knows </a:t>
            </a:r>
            <a:r>
              <a:rPr b="0" lang="en-NZ" sz="1600" spc="-1" strike="noStrike" u="sng">
                <a:solidFill>
                  <a:srgbClr val="000000"/>
                </a:solidFill>
                <a:uFillTx/>
                <a:latin typeface="Palatino Linotype"/>
              </a:rPr>
              <a:t>or</a:t>
            </a: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 ought reasonably to know about</a:t>
            </a:r>
            <a:br>
              <a:rPr sz="1600"/>
            </a:b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Judgment of what is “reasonably practicable” will take into account common practice and knowledge within an industry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4" name="Footer Placeholder 2"/>
          <p:cNvSpPr/>
          <p:nvPr/>
        </p:nvSpPr>
        <p:spPr>
          <a:xfrm>
            <a:off x="395280" y="6381720"/>
            <a:ext cx="7504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amclegal.co.nz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rcRect l="-21690" t="-2432" r="-12639" b="5039"/>
          <a:stretch/>
        </p:blipFill>
        <p:spPr>
          <a:xfrm>
            <a:off x="-6727680" y="-3195720"/>
            <a:ext cx="19224360" cy="1131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4T23:40:59Z</dcterms:created>
  <dc:creator>Angela Joanne Beazer</dc:creator>
  <dc:description/>
  <dc:language>en-US</dc:language>
  <cp:lastModifiedBy>Angela Joanne Beazer</cp:lastModifiedBy>
  <cp:lastPrinted>2013-06-23T22:13:25Z</cp:lastPrinted>
  <dcterms:modified xsi:type="dcterms:W3CDTF">2013-07-17T22:26:21Z</dcterms:modified>
  <cp:revision>124</cp:revision>
  <dc:subject/>
  <dc:title>The FPP Test: What you need to know</dc:title>
</cp:coreProperties>
</file>